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9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17.jpeg" ContentType="image/jpeg"/>
  <Override PartName="/ppt/media/image6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26.jpeg" ContentType="image/jpeg"/>
  <Override PartName="/ppt/media/image1.png" ContentType="image/png"/>
  <Override PartName="/ppt/media/image22.png" ContentType="image/png"/>
  <Override PartName="/ppt/media/image3.jpeg" ContentType="image/jpeg"/>
  <Override PartName="/ppt/media/image24.jpeg" ContentType="image/jpeg"/>
  <Override PartName="/ppt/media/image20.png" ContentType="image/png"/>
  <Override PartName="/ppt/media/image19.png" ContentType="image/png"/>
  <Override PartName="/ppt/media/image21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5.wmf" ContentType="image/x-wmf"/>
  <Override PartName="/ppt/media/image2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9372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92904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92904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6DA19B0-32D1-4D46-A10A-CC9748E82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"/>
          <p:cNvSpPr txBox="1"/>
          <p:nvPr/>
        </p:nvSpPr>
        <p:spPr>
          <a:xfrm>
            <a:off x="392904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F8D1BFE-E179-4D47-95C2-0593C2628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 txBox="1"/>
          <p:nvPr/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 txBox="1"/>
          <p:nvPr/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 txBox="1"/>
          <p:nvPr/>
        </p:nvSpPr>
        <p:spPr>
          <a:xfrm>
            <a:off x="392904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"/>
          <p:cNvSpPr txBox="1"/>
          <p:nvPr/>
        </p:nvSpPr>
        <p:spPr>
          <a:xfrm>
            <a:off x="392904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17A27A2-41EA-46FA-82BF-F66ADCC01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 txBox="1"/>
          <p:nvPr/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 txBox="1"/>
          <p:nvPr/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 txBox="1"/>
          <p:nvPr/>
        </p:nvSpPr>
        <p:spPr>
          <a:xfrm>
            <a:off x="392904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1"/>
          <p:cNvSpPr>
            <a:spLocks noGrp="1"/>
          </p:cNvSpPr>
          <p:nvPr>
            <p:ph type="sldImg"/>
          </p:nvPr>
        </p:nvSpPr>
        <p:spPr>
          <a:xfrm>
            <a:off x="441360" y="379440"/>
            <a:ext cx="5886360" cy="4414680"/>
          </a:xfrm>
          <a:prstGeom prst="rect">
            <a:avLst/>
          </a:prstGeom>
          <a:ln w="0">
            <a:noFill/>
          </a:ln>
        </p:spPr>
      </p:sp>
      <p:sp>
        <p:nvSpPr>
          <p:cNvPr id="1393" name="PlaceHolder 2"/>
          <p:cNvSpPr>
            <a:spLocks noGrp="1"/>
          </p:cNvSpPr>
          <p:nvPr>
            <p:ph type="body"/>
          </p:nvPr>
        </p:nvSpPr>
        <p:spPr>
          <a:xfrm>
            <a:off x="226800" y="4913280"/>
            <a:ext cx="6489720" cy="39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"/>
          <p:cNvSpPr txBox="1"/>
          <p:nvPr/>
        </p:nvSpPr>
        <p:spPr>
          <a:xfrm>
            <a:off x="392904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1E8A19A-E149-47B8-AB24-3CE7B6946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 txBox="1"/>
          <p:nvPr/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 txBox="1"/>
          <p:nvPr/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 txBox="1"/>
          <p:nvPr/>
        </p:nvSpPr>
        <p:spPr>
          <a:xfrm>
            <a:off x="392904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1"/>
          <p:cNvSpPr>
            <a:spLocks noGrp="1"/>
          </p:cNvSpPr>
          <p:nvPr>
            <p:ph type="sldImg"/>
          </p:nvPr>
        </p:nvSpPr>
        <p:spPr>
          <a:xfrm>
            <a:off x="1131840" y="685800"/>
            <a:ext cx="4664160" cy="3498840"/>
          </a:xfrm>
          <a:prstGeom prst="rect">
            <a:avLst/>
          </a:prstGeom>
          <a:ln w="0">
            <a:noFill/>
          </a:ln>
        </p:spPr>
      </p:sp>
      <p:sp>
        <p:nvSpPr>
          <p:cNvPr id="1399" name="PlaceHolder 2"/>
          <p:cNvSpPr>
            <a:spLocks noGrp="1"/>
          </p:cNvSpPr>
          <p:nvPr>
            <p:ph type="body"/>
          </p:nvPr>
        </p:nvSpPr>
        <p:spPr>
          <a:xfrm>
            <a:off x="910800" y="4413240"/>
            <a:ext cx="510084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"/>
          <p:cNvSpPr txBox="1"/>
          <p:nvPr/>
        </p:nvSpPr>
        <p:spPr>
          <a:xfrm>
            <a:off x="392904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E5FA238-9CFF-4D3D-9DF0-F27D142E9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 txBox="1"/>
          <p:nvPr/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 txBox="1"/>
          <p:nvPr/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 txBox="1"/>
          <p:nvPr/>
        </p:nvSpPr>
        <p:spPr>
          <a:xfrm>
            <a:off x="392904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1"/>
          <p:cNvSpPr>
            <a:spLocks noGrp="1"/>
          </p:cNvSpPr>
          <p:nvPr>
            <p:ph type="sldImg"/>
          </p:nvPr>
        </p:nvSpPr>
        <p:spPr>
          <a:xfrm>
            <a:off x="250920" y="303120"/>
            <a:ext cx="6459480" cy="4845240"/>
          </a:xfrm>
          <a:prstGeom prst="rect">
            <a:avLst/>
          </a:prstGeom>
          <a:ln w="0">
            <a:noFill/>
          </a:ln>
        </p:spPr>
      </p:sp>
      <p:sp>
        <p:nvSpPr>
          <p:cNvPr id="1405" name="PlaceHolder 2"/>
          <p:cNvSpPr>
            <a:spLocks noGrp="1"/>
          </p:cNvSpPr>
          <p:nvPr>
            <p:ph type="body"/>
          </p:nvPr>
        </p:nvSpPr>
        <p:spPr>
          <a:xfrm>
            <a:off x="301680" y="5148000"/>
            <a:ext cx="6346800" cy="36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"/>
          <p:cNvSpPr txBox="1"/>
          <p:nvPr/>
        </p:nvSpPr>
        <p:spPr>
          <a:xfrm>
            <a:off x="392904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4BA5E81-EB6B-4110-871E-F3BD0CF7E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 txBox="1"/>
          <p:nvPr/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 txBox="1"/>
          <p:nvPr/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 txBox="1"/>
          <p:nvPr/>
        </p:nvSpPr>
        <p:spPr>
          <a:xfrm>
            <a:off x="392904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1"/>
          <p:cNvSpPr>
            <a:spLocks noGrp="1"/>
          </p:cNvSpPr>
          <p:nvPr>
            <p:ph type="sldImg"/>
          </p:nvPr>
        </p:nvSpPr>
        <p:spPr>
          <a:xfrm>
            <a:off x="441360" y="379440"/>
            <a:ext cx="5886360" cy="4414680"/>
          </a:xfrm>
          <a:prstGeom prst="rect">
            <a:avLst/>
          </a:prstGeom>
          <a:ln w="0">
            <a:noFill/>
          </a:ln>
        </p:spPr>
      </p:sp>
      <p:sp>
        <p:nvSpPr>
          <p:cNvPr id="1411" name="PlaceHolder 2"/>
          <p:cNvSpPr>
            <a:spLocks noGrp="1"/>
          </p:cNvSpPr>
          <p:nvPr>
            <p:ph type="body"/>
          </p:nvPr>
        </p:nvSpPr>
        <p:spPr>
          <a:xfrm>
            <a:off x="226800" y="4913280"/>
            <a:ext cx="6489720" cy="39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"/>
          <p:cNvSpPr txBox="1"/>
          <p:nvPr/>
        </p:nvSpPr>
        <p:spPr>
          <a:xfrm>
            <a:off x="392904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89F8710-E674-4F3F-92DA-29E0BB39E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 txBox="1"/>
          <p:nvPr/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 txBox="1"/>
          <p:nvPr/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 txBox="1"/>
          <p:nvPr/>
        </p:nvSpPr>
        <p:spPr>
          <a:xfrm>
            <a:off x="392904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1417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"/>
          <p:cNvSpPr txBox="1"/>
          <p:nvPr/>
        </p:nvSpPr>
        <p:spPr>
          <a:xfrm>
            <a:off x="392904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7521B62-6E74-4FAB-B9F1-28F193650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 txBox="1"/>
          <p:nvPr/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 txBox="1"/>
          <p:nvPr/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 txBox="1"/>
          <p:nvPr/>
        </p:nvSpPr>
        <p:spPr>
          <a:xfrm>
            <a:off x="392904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1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8240" cy="414972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allel 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592880" cy="34448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0E697-BA77-434B-A10D-9C79C16A7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C0BCF-B9B0-4C2F-9FE5-F14F23A0F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F1771-0151-4DD0-A026-B0CA05C4A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C9904-BE3C-4E68-B184-A16057E94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264A7-9022-4E85-9D97-CCBEB1EB2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F2552-AC61-4CAB-93E7-726303850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EB70B-6127-46DD-B652-4AA201DA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54D10-47FF-4C51-829F-A7750DA43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7B520-F93B-4F93-939D-B153932D0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81235-7CCC-424C-93B0-FE675316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4DDB3-83EE-4005-8BD9-80F319F9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1ACD0-FC05-4A5A-BB98-B94C82B0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066320" y="609552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5C964-125F-4051-881E-56CFF15C0573}" type="datetime">
              <a:rPr b="1" lang="en-US" sz="800" spc="-1" strike="noStrike">
                <a:solidFill>
                  <a:srgbClr val="ffffff"/>
                </a:solidFill>
                <a:latin typeface="Verdana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533160" y="609552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510FC-3280-4D26-83C1-535F1AF2DC3C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400800"/>
            <a:ext cx="2951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6, Intel Corporation. All rights reserved.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*Other brands and names are the property of their respective owners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3047760" y="6095520"/>
            <a:ext cx="3095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a6cae1"/>
                </a:solidFill>
                <a:latin typeface="Verdana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6cae1"/>
                </a:solidFill>
                <a:latin typeface="Verdana"/>
                <a:ea typeface="MS PGothic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4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281952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Optimization Techniques For Maximizing Application Performance on Multi-Core Processors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3533760" cy="2514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666880" y="48006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Kittur Gane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837A0-07AF-4E1F-9907-75A84E01D18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B6F065-847B-48C1-8441-8B3F5BD8A9DF}" type="datetime1">
              <a:rPr lang="en-US"/>
              <a:t>07/30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arallelism – Threading: When, Why, How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37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85000"/>
              </a:lnSpc>
              <a:spcBef>
                <a:spcPts val="21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en to thread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dependent tasks that can execute concurrentl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5000"/>
              </a:lnSpc>
              <a:spcBef>
                <a:spcPts val="21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y thread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urnaround or Throughpu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5000"/>
              </a:lnSpc>
              <a:spcBef>
                <a:spcPts val="21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w to thread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unctionality or Performa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5000"/>
              </a:lnSpc>
              <a:spcBef>
                <a:spcPts val="21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w to define independent tasks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ask or Data decomposi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F9D9D-78A2-4822-A578-160D47680A0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3E2374-6A44-41B4-9EF7-B78DDE519EF4}" type="datetime1">
              <a:rPr lang="en-US"/>
              <a:t>07/30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380880" y="1295280"/>
            <a:ext cx="4952880" cy="2667960"/>
            <a:chOff x="380880" y="1295280"/>
            <a:chExt cx="4952880" cy="2667960"/>
          </a:xfrm>
        </p:grpSpPr>
        <p:sp>
          <p:nvSpPr>
            <p:cNvPr id="120" name=""/>
            <p:cNvSpPr/>
            <p:nvPr/>
          </p:nvSpPr>
          <p:spPr>
            <a:xfrm>
              <a:off x="380880" y="1295280"/>
              <a:ext cx="4952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5e647"/>
                  </a:solidFill>
                  <a:latin typeface="Arial"/>
                </a:rPr>
                <a:t>Open DB’s            Address Book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00200" y="3541680"/>
              <a:ext cx="365760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5e647"/>
                  </a:solidFill>
                  <a:latin typeface="Arial"/>
                </a:rPr>
                <a:t>InBox             Calenda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828800" y="2057400"/>
              <a:ext cx="1447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14400" y="2239920"/>
              <a:ext cx="1474920" cy="744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920" y="2411280"/>
              <a:ext cx="404640" cy="4064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823680" y="1741320"/>
              <a:ext cx="731880" cy="66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2"/>
            <a:stretch/>
          </p:blipFill>
          <p:spPr>
            <a:xfrm>
              <a:off x="3809880" y="2608200"/>
              <a:ext cx="919080" cy="84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3"/>
            <a:stretch/>
          </p:blipFill>
          <p:spPr>
            <a:xfrm>
              <a:off x="1638360" y="2673360"/>
              <a:ext cx="860400" cy="85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4"/>
            <a:stretch/>
          </p:blipFill>
          <p:spPr>
            <a:xfrm>
              <a:off x="3611520" y="1690560"/>
              <a:ext cx="914400" cy="830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301680"/>
            <a:ext cx="758988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Functional/Data Decomposition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80880" y="4495680"/>
            <a:ext cx="6019920" cy="1295280"/>
            <a:chOff x="380880" y="4495680"/>
            <a:chExt cx="6019920" cy="1295280"/>
          </a:xfrm>
        </p:grpSpPr>
        <p:sp>
          <p:nvSpPr>
            <p:cNvPr id="131" name=""/>
            <p:cNvSpPr/>
            <p:nvPr/>
          </p:nvSpPr>
          <p:spPr>
            <a:xfrm>
              <a:off x="380880" y="5344920"/>
              <a:ext cx="6858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86000" y="5344920"/>
              <a:ext cx="6858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3" name="" descr=""/>
            <p:cNvPicPr/>
            <p:nvPr/>
          </p:nvPicPr>
          <p:blipFill>
            <a:blip r:embed="rId5"/>
            <a:stretch/>
          </p:blipFill>
          <p:spPr>
            <a:xfrm>
              <a:off x="1218960" y="4964040"/>
              <a:ext cx="906480" cy="7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6"/>
            <a:stretch/>
          </p:blipFill>
          <p:spPr>
            <a:xfrm>
              <a:off x="3047760" y="4887720"/>
              <a:ext cx="990720" cy="90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7"/>
            <a:stretch/>
          </p:blipFill>
          <p:spPr>
            <a:xfrm>
              <a:off x="4967280" y="5040360"/>
              <a:ext cx="823680" cy="62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1066680" y="4495680"/>
              <a:ext cx="533412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5e647"/>
                  </a:solidFill>
                  <a:latin typeface="Arial"/>
                </a:rPr>
                <a:t>Open File</a:t>
              </a:r>
              <a:r>
                <a:rPr b="1" lang="en-US" sz="2400" spc="-1" strike="noStrike">
                  <a:solidFill>
                    <a:srgbClr val="f5e647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5e647"/>
                  </a:solidFill>
                  <a:latin typeface="Arial"/>
                </a:rPr>
                <a:t>  Edit       Spell Chec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190760" y="5344920"/>
              <a:ext cx="6858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152280" y="4191120"/>
            <a:ext cx="8763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39160" y="2286000"/>
            <a:ext cx="32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urrent Tas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947920" y="5029200"/>
            <a:ext cx="308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quential Tas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2A736-0ECA-4595-B891-A4C9E924E27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B786D2-77C3-438F-928F-FA3F8405D0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hared Memory Parallelism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21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ultiple threads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ecuting concurrentl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haring a single address spa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haring work in coordinated fash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cheduling handled by O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1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quires a system that provides shar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lnSpc>
                <a:spcPct val="5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mory and multiple CPU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5B7AE-75AA-407F-BA52-AAC81D3D2E1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3D9D95-80F1-4532-A345-55048ED7CE1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Keys to Parallelism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5798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8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dentify concurrent work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8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pread work evenly among worker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8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reate private copie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f commonly used resourc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21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ynchronize access to costly or unique shared resource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715000" y="1447920"/>
            <a:ext cx="3024000" cy="3566520"/>
            <a:chOff x="5715000" y="1447920"/>
            <a:chExt cx="3024000" cy="3566520"/>
          </a:xfrm>
        </p:grpSpPr>
        <p:sp>
          <p:nvSpPr>
            <p:cNvPr id="146" name=""/>
            <p:cNvSpPr/>
            <p:nvPr/>
          </p:nvSpPr>
          <p:spPr>
            <a:xfrm>
              <a:off x="5920920" y="1957320"/>
              <a:ext cx="2818080" cy="25473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20920" y="3995280"/>
              <a:ext cx="2818080" cy="509400"/>
            </a:xfrm>
            <a:prstGeom prst="rect">
              <a:avLst/>
            </a:prstGeom>
            <a:solidFill>
              <a:srgbClr val="00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195960" y="3849840"/>
              <a:ext cx="2543040" cy="2912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5715000" y="3149280"/>
              <a:ext cx="756000" cy="99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7570440" y="3704400"/>
              <a:ext cx="274680" cy="8002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20920" y="4213800"/>
              <a:ext cx="1649520" cy="145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845480" y="4213800"/>
              <a:ext cx="893520" cy="145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020720" y="2757960"/>
              <a:ext cx="480960" cy="2912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45680" y="2976480"/>
              <a:ext cx="1168560" cy="873360"/>
            </a:xfrm>
            <a:prstGeom prst="rect">
              <a:avLst/>
            </a:prstGeom>
            <a:solidFill>
              <a:srgbClr val="33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745680" y="2976480"/>
              <a:ext cx="1168560" cy="873360"/>
            </a:xfrm>
            <a:prstGeom prst="line">
              <a:avLst/>
            </a:prstGeom>
            <a:ln w="38160">
              <a:solidFill>
                <a:srgbClr val="567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6745680" y="2976480"/>
              <a:ext cx="1168560" cy="873360"/>
            </a:xfrm>
            <a:prstGeom prst="line">
              <a:avLst/>
            </a:prstGeom>
            <a:ln w="38160">
              <a:solidFill>
                <a:srgbClr val="567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920920" y="1957320"/>
              <a:ext cx="2818080" cy="436680"/>
            </a:xfrm>
            <a:prstGeom prst="rect">
              <a:avLst/>
            </a:prstGeom>
            <a:solidFill>
              <a:srgbClr val="00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051760" y="2248200"/>
              <a:ext cx="687240" cy="5824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9" name="" descr=""/>
            <p:cNvPicPr/>
            <p:nvPr/>
          </p:nvPicPr>
          <p:blipFill>
            <a:blip r:embed="rId2"/>
            <a:stretch/>
          </p:blipFill>
          <p:spPr>
            <a:xfrm>
              <a:off x="7570440" y="1447920"/>
              <a:ext cx="756000" cy="99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6207480" y="2089080"/>
              <a:ext cx="945000" cy="529200"/>
            </a:xfrm>
            <a:custGeom>
              <a:avLst/>
              <a:gdLst/>
              <a:ahLst/>
              <a:rect l="l" t="t" r="r" b="b"/>
              <a:pathLst>
                <a:path w="660" h="349">
                  <a:moveTo>
                    <a:pt x="0" y="191"/>
                  </a:moveTo>
                  <a:cubicBezTo>
                    <a:pt x="11" y="142"/>
                    <a:pt x="28" y="118"/>
                    <a:pt x="81" y="98"/>
                  </a:cubicBezTo>
                  <a:cubicBezTo>
                    <a:pt x="126" y="55"/>
                    <a:pt x="195" y="31"/>
                    <a:pt x="256" y="17"/>
                  </a:cubicBezTo>
                  <a:cubicBezTo>
                    <a:pt x="469" y="0"/>
                    <a:pt x="454" y="41"/>
                    <a:pt x="556" y="60"/>
                  </a:cubicBezTo>
                  <a:cubicBezTo>
                    <a:pt x="591" y="77"/>
                    <a:pt x="617" y="94"/>
                    <a:pt x="638" y="126"/>
                  </a:cubicBezTo>
                  <a:cubicBezTo>
                    <a:pt x="645" y="149"/>
                    <a:pt x="655" y="162"/>
                    <a:pt x="660" y="186"/>
                  </a:cubicBezTo>
                  <a:cubicBezTo>
                    <a:pt x="654" y="235"/>
                    <a:pt x="655" y="297"/>
                    <a:pt x="600" y="317"/>
                  </a:cubicBezTo>
                  <a:cubicBezTo>
                    <a:pt x="574" y="315"/>
                    <a:pt x="548" y="316"/>
                    <a:pt x="523" y="311"/>
                  </a:cubicBezTo>
                  <a:cubicBezTo>
                    <a:pt x="505" y="308"/>
                    <a:pt x="469" y="281"/>
                    <a:pt x="452" y="273"/>
                  </a:cubicBezTo>
                  <a:cubicBezTo>
                    <a:pt x="436" y="265"/>
                    <a:pt x="415" y="262"/>
                    <a:pt x="398" y="257"/>
                  </a:cubicBezTo>
                  <a:cubicBezTo>
                    <a:pt x="357" y="230"/>
                    <a:pt x="352" y="241"/>
                    <a:pt x="289" y="246"/>
                  </a:cubicBezTo>
                  <a:cubicBezTo>
                    <a:pt x="234" y="262"/>
                    <a:pt x="267" y="291"/>
                    <a:pt x="218" y="306"/>
                  </a:cubicBezTo>
                  <a:cubicBezTo>
                    <a:pt x="141" y="344"/>
                    <a:pt x="145" y="349"/>
                    <a:pt x="92" y="333"/>
                  </a:cubicBezTo>
                  <a:cubicBezTo>
                    <a:pt x="78" y="324"/>
                    <a:pt x="16" y="295"/>
                    <a:pt x="11" y="278"/>
                  </a:cubicBezTo>
                  <a:cubicBezTo>
                    <a:pt x="1" y="242"/>
                    <a:pt x="14" y="174"/>
                    <a:pt x="0" y="19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920920" y="4505040"/>
              <a:ext cx="2818080" cy="509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20920" y="4764240"/>
              <a:ext cx="2818080" cy="0"/>
            </a:xfrm>
            <a:prstGeom prst="line">
              <a:avLst/>
            </a:prstGeom>
            <a:ln w="38160">
              <a:solidFill>
                <a:srgbClr val="ffcc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B95D9-FC76-4578-BC19-144BE5646DC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115046-4E9A-44E1-B4DC-F33B5F1C2DA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peedup = 1/(P/N + S)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5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 (parallel code fraction) S (serial code fraction) N (processors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3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Example: Image processing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30 minutes of preparation (serial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ne minute to scan a reg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30 minutes of cleanup (serial)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peedup is restricted by serial portion. And, speedup increases with greater number of cores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mdahl’s Law - 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heoretical Maximum Speedup of parallel execution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572000" y="2743200"/>
            <a:ext cx="4002120" cy="212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031C1-85B8-4EF4-BE2D-447D2A9A2CC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CECA5F-527A-487E-A944-8C29BB7F43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122880" y="4987800"/>
            <a:ext cx="25686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60520" y="4987800"/>
            <a:ext cx="25686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27400" y="4987800"/>
            <a:ext cx="25686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14480" y="1447920"/>
            <a:ext cx="8800920" cy="3270240"/>
            <a:chOff x="114480" y="1447920"/>
            <a:chExt cx="8800920" cy="3270240"/>
          </a:xfrm>
        </p:grpSpPr>
        <p:sp>
          <p:nvSpPr>
            <p:cNvPr id="170" name=""/>
            <p:cNvSpPr/>
            <p:nvPr/>
          </p:nvSpPr>
          <p:spPr>
            <a:xfrm>
              <a:off x="114480" y="1486080"/>
              <a:ext cx="4017960" cy="2479320"/>
            </a:xfrm>
            <a:prstGeom prst="rect">
              <a:avLst/>
            </a:prstGeom>
            <a:solidFill>
              <a:srgbClr val="a6ca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68400" y="1468440"/>
              <a:ext cx="241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ultiprocessor  (DP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185840" y="3629160"/>
              <a:ext cx="0" cy="2016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41280" y="3830760"/>
              <a:ext cx="3597480" cy="0"/>
            </a:xfrm>
            <a:prstGeom prst="line">
              <a:avLst/>
            </a:prstGeom>
            <a:ln w="792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341280" y="1862280"/>
              <a:ext cx="1663560" cy="1755720"/>
              <a:chOff x="341280" y="1862280"/>
              <a:chExt cx="1663560" cy="1755720"/>
            </a:xfrm>
          </p:grpSpPr>
          <p:grpSp>
            <p:nvGrpSpPr>
              <p:cNvPr id="175" name=""/>
              <p:cNvGrpSpPr/>
              <p:nvPr/>
            </p:nvGrpSpPr>
            <p:grpSpPr>
              <a:xfrm>
                <a:off x="341280" y="1862280"/>
                <a:ext cx="1663560" cy="1755720"/>
                <a:chOff x="341280" y="1862280"/>
                <a:chExt cx="1663560" cy="175572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357480" y="1888200"/>
                  <a:ext cx="1647360" cy="1729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24a8"/>
                    </a:gs>
                    <a:gs pos="100000">
                      <a:srgbClr val="00104d"/>
                    </a:gs>
                  </a:gsLst>
                  <a:lin ang="5400000"/>
                </a:gradFill>
                <a:ln cap="rnd"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7" name=""/>
                <p:cNvGrpSpPr/>
                <p:nvPr/>
              </p:nvGrpSpPr>
              <p:grpSpPr>
                <a:xfrm>
                  <a:off x="341280" y="1862280"/>
                  <a:ext cx="1647360" cy="1738080"/>
                  <a:chOff x="341280" y="1862280"/>
                  <a:chExt cx="1647360" cy="173808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>
                    <a:off x="341280" y="18622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341280" y="18709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341280" y="18795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341280" y="18882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341280" y="18968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341280" y="19054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341280" y="1914120"/>
                    <a:ext cx="1647360" cy="9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341280" y="19234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341280" y="19321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341280" y="19407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341280" y="19494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341280" y="19584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341280" y="19670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341280" y="19756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341280" y="19843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341280" y="19929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341280" y="20016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341280" y="20102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341280" y="20188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341280" y="20275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341280" y="20361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341280" y="20448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341280" y="20534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41280" y="20620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41280" y="20707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341280" y="20793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341280" y="20880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341280" y="20966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341280" y="21052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341280" y="21139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341280" y="21225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341280" y="21315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341280" y="21402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341280" y="21488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341280" y="21574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341280" y="2166120"/>
                    <a:ext cx="1647360" cy="9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341280" y="21754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41280" y="21841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341280" y="21931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341280" y="22017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341280" y="22104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341280" y="22190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341280" y="22276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341280" y="22363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341280" y="22449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341280" y="22536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341280" y="22622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341280" y="22708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341280" y="22795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341280" y="22881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341280" y="22968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341280" y="23054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341280" y="23140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341280" y="23227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341280" y="23313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341280" y="23400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341280" y="23486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341280" y="23572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341280" y="23662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341280" y="23749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341280" y="23835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341280" y="23922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341280" y="24008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341280" y="24094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341280" y="24181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341280" y="2426760"/>
                    <a:ext cx="1647360" cy="9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341280" y="24364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341280" y="24451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341280" y="24537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341280" y="24624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341280" y="24710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341280" y="24796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341280" y="24883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341280" y="24969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341280" y="25056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341280" y="25142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341280" y="25228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341280" y="25315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341280" y="25401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341280" y="25488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341280" y="25574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341280" y="25660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341280" y="25747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341280" y="25833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41280" y="25920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341280" y="26010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341280" y="26096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341280" y="26182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341280" y="26269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41280" y="26355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41280" y="26442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341280" y="26528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341280" y="26614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341280" y="26701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341280" y="26787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341280" y="2687760"/>
                    <a:ext cx="1647360" cy="9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341280" y="26971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341280" y="27057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341280" y="27144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341280" y="27230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341280" y="27316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341280" y="27403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341280" y="27489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341280" y="27576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341280" y="27662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341280" y="27748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341280" y="27835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341280" y="27921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341280" y="28008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341280" y="28094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341280" y="28180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341280" y="28270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341280" y="28357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341280" y="28443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341280" y="28530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341280" y="28616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341280" y="28702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341280" y="28789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341280" y="28875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341280" y="28962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341280" y="29048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341280" y="29134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341280" y="29224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341280" y="29311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341280" y="2939760"/>
                    <a:ext cx="1647360" cy="9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341280" y="29491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341280" y="29577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341280" y="29664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341280" y="29750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341280" y="29836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341280" y="29923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341280" y="30009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341280" y="30096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341280" y="30182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341280" y="30268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341280" y="30355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341280" y="30441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341280" y="30528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341280" y="30618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341280" y="30704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341280" y="30790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341280" y="30877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341280" y="30963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341280" y="31050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341280" y="31136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341280" y="31222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341280" y="31309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>
                    <a:off x="341280" y="31395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>
                    <a:off x="341280" y="31485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341280" y="31572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341280" y="31658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341280" y="31744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341280" y="31831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341280" y="31917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341280" y="3200400"/>
                    <a:ext cx="1647360" cy="9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341280" y="32097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341280" y="32184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341280" y="32270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341280" y="32356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341280" y="32443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341280" y="32529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341280" y="32616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341280" y="32702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341280" y="32788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341280" y="32875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341280" y="32965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341280" y="33051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341280" y="33138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341280" y="33224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341280" y="33310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341280" y="33397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341280" y="33483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341280" y="33570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341280" y="33656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341280" y="33742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341280" y="33832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341280" y="33919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341280" y="34005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341280" y="34092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341280" y="34178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341280" y="34264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341280" y="34351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341280" y="34437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341280" y="3452400"/>
                    <a:ext cx="1647360" cy="9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341280" y="34617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341280" y="34704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341280" y="34790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341280" y="34876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341280" y="34963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341280" y="35049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341280" y="35136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341280" y="35226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341280" y="35312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341280" y="35398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341280" y="35485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341280" y="35571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341280" y="35658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341280" y="35744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341280" y="35830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341280" y="35917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8" name=""/>
                <p:cNvSpPr/>
                <p:nvPr/>
              </p:nvSpPr>
              <p:spPr>
                <a:xfrm>
                  <a:off x="341280" y="1862280"/>
                  <a:ext cx="1647360" cy="173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24a8"/>
                    </a:gs>
                    <a:gs pos="100000">
                      <a:srgbClr val="00104d"/>
                    </a:gs>
                  </a:gsLst>
                  <a:lin ang="5400000"/>
                </a:gradFill>
                <a:ln cap="rnd" w="63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9" name=""/>
              <p:cNvSpPr/>
              <p:nvPr/>
            </p:nvSpPr>
            <p:spPr>
              <a:xfrm>
                <a:off x="461520" y="2534040"/>
                <a:ext cx="1425240" cy="941400"/>
              </a:xfrm>
              <a:prstGeom prst="rect">
                <a:avLst/>
              </a:prstGeom>
              <a:gradFill rotWithShape="0">
                <a:gsLst>
                  <a:gs pos="0">
                    <a:srgbClr val="0c2e86"/>
                  </a:gs>
                  <a:gs pos="100000">
                    <a:srgbClr val="05153d"/>
                  </a:gs>
                </a:gsLst>
                <a:lin ang="5400000"/>
              </a:gradFill>
              <a:ln cap="rnd" w="47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 Narrow"/>
                  </a:rPr>
                  <a:t>PE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80" name=""/>
              <p:cNvGrpSpPr/>
              <p:nvPr/>
            </p:nvGrpSpPr>
            <p:grpSpPr>
              <a:xfrm>
                <a:off x="637920" y="1965600"/>
                <a:ext cx="1042200" cy="507600"/>
                <a:chOff x="637920" y="1965600"/>
                <a:chExt cx="1042200" cy="50760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637920" y="1965600"/>
                  <a:ext cx="1042200" cy="253080"/>
                </a:xfrm>
                <a:prstGeom prst="rect">
                  <a:avLst/>
                </a:prstGeom>
                <a:solidFill>
                  <a:srgbClr val="a6cae1"/>
                </a:solidFill>
                <a:ln cap="rnd" w="47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1016280" y="2010240"/>
                  <a:ext cx="20340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 Narrow"/>
                    </a:rPr>
                    <a:t>AS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637920" y="2216880"/>
                  <a:ext cx="1042200" cy="244440"/>
                </a:xfrm>
                <a:prstGeom prst="rect">
                  <a:avLst/>
                </a:prstGeom>
                <a:solidFill>
                  <a:srgbClr val="567eb9"/>
                </a:solidFill>
                <a:ln cap="rnd" w="47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975960" y="2259720"/>
                  <a:ext cx="34956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 Narrow"/>
                    </a:rPr>
                    <a:t>APIC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5" name=""/>
            <p:cNvSpPr/>
            <p:nvPr/>
          </p:nvSpPr>
          <p:spPr>
            <a:xfrm>
              <a:off x="1166400" y="4076640"/>
              <a:ext cx="56671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S = Architecture State (registers, flags, timestamp counter, etc.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PIC = Advanced Programmable Interrupt Controll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ER = Processor Execution Resources (execution units, instruction decode, etc.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119400" y="3629160"/>
              <a:ext cx="0" cy="2016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2274840" y="1862280"/>
              <a:ext cx="1663920" cy="1755720"/>
              <a:chOff x="2274840" y="1862280"/>
              <a:chExt cx="1663920" cy="1755720"/>
            </a:xfrm>
          </p:grpSpPr>
          <p:grpSp>
            <p:nvGrpSpPr>
              <p:cNvPr id="388" name=""/>
              <p:cNvGrpSpPr/>
              <p:nvPr/>
            </p:nvGrpSpPr>
            <p:grpSpPr>
              <a:xfrm>
                <a:off x="2274840" y="1862280"/>
                <a:ext cx="1663920" cy="1755720"/>
                <a:chOff x="2274840" y="1862280"/>
                <a:chExt cx="1663920" cy="175572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2291040" y="1888200"/>
                  <a:ext cx="1647720" cy="1729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24a8"/>
                    </a:gs>
                    <a:gs pos="100000">
                      <a:srgbClr val="00104d"/>
                    </a:gs>
                  </a:gsLst>
                  <a:lin ang="5400000"/>
                </a:gradFill>
                <a:ln cap="rnd"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90" name=""/>
                <p:cNvGrpSpPr/>
                <p:nvPr/>
              </p:nvGrpSpPr>
              <p:grpSpPr>
                <a:xfrm>
                  <a:off x="2274840" y="1862280"/>
                  <a:ext cx="1647720" cy="1738080"/>
                  <a:chOff x="2274840" y="1862280"/>
                  <a:chExt cx="1647720" cy="1738080"/>
                </a:xfrm>
              </p:grpSpPr>
              <p:sp>
                <p:nvSpPr>
                  <p:cNvPr id="391" name=""/>
                  <p:cNvSpPr/>
                  <p:nvPr/>
                </p:nvSpPr>
                <p:spPr>
                  <a:xfrm>
                    <a:off x="2274840" y="186228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2274840" y="187092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2274840" y="187956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2274840" y="188820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2274840" y="189684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2274840" y="190548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2274840" y="1914120"/>
                    <a:ext cx="1647720" cy="9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2274840" y="192348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2274840" y="193212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2274840" y="194076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2274840" y="194940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2274840" y="195840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2274840" y="196704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2274840" y="197568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2274840" y="198432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2274840" y="199296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2274840" y="200160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2274840" y="201024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2274840" y="201888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2274840" y="202752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2274840" y="203616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2274840" y="204480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2274840" y="205344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2274840" y="206208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2274840" y="207072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2274840" y="207936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2274840" y="208800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2274840" y="209664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2274840" y="210528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2274840" y="211392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2274840" y="212256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2274840" y="213156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2274840" y="214020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2274840" y="214884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2274840" y="215748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2274840" y="2166120"/>
                    <a:ext cx="1647720" cy="9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2274840" y="217548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2274840" y="218412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2274840" y="219312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2274840" y="220176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2274840" y="221040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2274840" y="221904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2274840" y="222768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2274840" y="223632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2274840" y="224496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2274840" y="225360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2274840" y="226224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2274840" y="227088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2274840" y="227952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2274840" y="228816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2274840" y="229680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2274840" y="230544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2274840" y="231408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2274840" y="232272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2274840" y="233136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2274840" y="234000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2274840" y="234864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2274840" y="235728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2274840" y="236628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2274840" y="237492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2274840" y="238356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2274840" y="239220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2274840" y="240084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2274840" y="240948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2274840" y="241812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2274840" y="2426760"/>
                    <a:ext cx="1647720" cy="9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2274840" y="243648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2274840" y="244512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2274840" y="245376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2274840" y="246240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2274840" y="247104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2274840" y="247968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2274840" y="248832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2274840" y="249696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2274840" y="250560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2274840" y="251424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2274840" y="252288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2274840" y="253152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2274840" y="254016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2274840" y="254880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2274840" y="255744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2274840" y="256608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2274840" y="257472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2274840" y="258336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2274840" y="259200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2274840" y="260100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2274840" y="260964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2274840" y="261828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2274840" y="262692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2274840" y="263556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2274840" y="264420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2274840" y="265284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2274840" y="266148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2274840" y="267012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2274840" y="267876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2274840" y="2687760"/>
                    <a:ext cx="1647720" cy="9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2274840" y="269712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2274840" y="270576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2274840" y="271440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2274840" y="272304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2274840" y="273168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>
                    <a:off x="2274840" y="274032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2274840" y="274896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2274840" y="275760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2274840" y="276624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2274840" y="277488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2274840" y="278352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>
                    <a:off x="2274840" y="279216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>
                    <a:off x="2274840" y="280080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2274840" y="280944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>
                    <a:off x="2274840" y="281808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2274840" y="282708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2274840" y="283572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2274840" y="284436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2274840" y="285300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>
                    <a:off x="2274840" y="286164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>
                    <a:off x="2274840" y="287028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>
                    <a:off x="2274840" y="287892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>
                    <a:off x="2274840" y="288756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2274840" y="289620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>
                    <a:off x="2274840" y="290484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>
                    <a:off x="2274840" y="291348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>
                    <a:off x="2274840" y="292248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>
                    <a:off x="2274840" y="293112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2274840" y="2939760"/>
                    <a:ext cx="1647720" cy="9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>
                    <a:off x="2274840" y="294912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>
                    <a:off x="2274840" y="295776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>
                    <a:off x="2274840" y="296640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>
                    <a:off x="2274840" y="297504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2274840" y="298368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2274840" y="299232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2274840" y="300096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2274840" y="300960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2274840" y="301824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>
                    <a:off x="2274840" y="302688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>
                    <a:off x="2274840" y="303552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>
                    <a:off x="2274840" y="304416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>
                    <a:off x="2274840" y="305280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>
                    <a:off x="2274840" y="306180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2274840" y="307044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>
                    <a:off x="2274840" y="307908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>
                    <a:off x="2274840" y="308772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>
                    <a:off x="2274840" y="309636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>
                    <a:off x="2274840" y="310500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2274840" y="311364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>
                    <a:off x="2274840" y="312228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>
                    <a:off x="2274840" y="313092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>
                    <a:off x="2274840" y="313956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>
                    <a:off x="2274840" y="314856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>
                    <a:off x="2274840" y="315720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>
                    <a:off x="2274840" y="316584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2274840" y="317448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2274840" y="318312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2274840" y="319176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2274840" y="3200400"/>
                    <a:ext cx="1647720" cy="9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2274840" y="320976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2274840" y="321840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2274840" y="322704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2274840" y="323568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2274840" y="324432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2274840" y="325296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2274840" y="326160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>
                    <a:off x="2274840" y="327024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>
                    <a:off x="2274840" y="327888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>
                    <a:off x="2274840" y="328752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>
                    <a:off x="2274840" y="329652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>
                    <a:off x="2274840" y="330516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>
                    <a:off x="2274840" y="331380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>
                    <a:off x="2274840" y="332244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>
                    <a:off x="2274840" y="333108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>
                    <a:off x="2274840" y="333972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2274840" y="334836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>
                    <a:off x="2274840" y="335700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>
                    <a:off x="2274840" y="336564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2274840" y="337428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>
                    <a:off x="2274840" y="338328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>
                    <a:off x="2274840" y="339192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>
                    <a:off x="2274840" y="340056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2274840" y="340920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>
                    <a:off x="2274840" y="341784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>
                    <a:off x="2274840" y="342648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2274840" y="343512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2274840" y="344376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>
                    <a:off x="2274840" y="3452400"/>
                    <a:ext cx="1647720" cy="9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>
                    <a:off x="2274840" y="346176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>
                    <a:off x="2274840" y="347040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>
                    <a:off x="2274840" y="347904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>
                    <a:off x="2274840" y="348768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>
                    <a:off x="2274840" y="349632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>
                    <a:off x="2274840" y="350496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>
                    <a:off x="2274840" y="351360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>
                    <a:off x="2274840" y="352260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>
                    <a:off x="2274840" y="353124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>
                    <a:off x="2274840" y="353988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>
                    <a:off x="2274840" y="354852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>
                    <a:off x="2274840" y="355716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2274840" y="356580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>
                    <a:off x="2274840" y="357444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>
                    <a:off x="2274840" y="358308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>
                    <a:off x="2274840" y="359172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1" name=""/>
                <p:cNvSpPr/>
                <p:nvPr/>
              </p:nvSpPr>
              <p:spPr>
                <a:xfrm>
                  <a:off x="2274840" y="1862280"/>
                  <a:ext cx="1647720" cy="173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24a8"/>
                    </a:gs>
                    <a:gs pos="100000">
                      <a:srgbClr val="00104d"/>
                    </a:gs>
                  </a:gsLst>
                  <a:lin ang="5400000"/>
                </a:gradFill>
                <a:ln cap="rnd" w="63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2" name=""/>
              <p:cNvSpPr/>
              <p:nvPr/>
            </p:nvSpPr>
            <p:spPr>
              <a:xfrm>
                <a:off x="2395440" y="2534040"/>
                <a:ext cx="1425600" cy="941400"/>
              </a:xfrm>
              <a:prstGeom prst="rect">
                <a:avLst/>
              </a:prstGeom>
              <a:gradFill rotWithShape="0">
                <a:gsLst>
                  <a:gs pos="0">
                    <a:srgbClr val="0c2e86"/>
                  </a:gs>
                  <a:gs pos="100000">
                    <a:srgbClr val="05153d"/>
                  </a:gs>
                </a:gsLst>
                <a:lin ang="5400000"/>
              </a:gradFill>
              <a:ln cap="rnd" w="47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 Narrow"/>
                  </a:rPr>
                  <a:t>PE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93" name=""/>
              <p:cNvGrpSpPr/>
              <p:nvPr/>
            </p:nvGrpSpPr>
            <p:grpSpPr>
              <a:xfrm>
                <a:off x="2571840" y="1965600"/>
                <a:ext cx="1042560" cy="507600"/>
                <a:chOff x="2571840" y="1965600"/>
                <a:chExt cx="1042560" cy="50760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2571840" y="1965600"/>
                  <a:ext cx="1042560" cy="253080"/>
                </a:xfrm>
                <a:prstGeom prst="rect">
                  <a:avLst/>
                </a:prstGeom>
                <a:solidFill>
                  <a:srgbClr val="a6cae1"/>
                </a:solidFill>
                <a:ln cap="rnd" w="47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2950200" y="2010240"/>
                  <a:ext cx="20340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 Narrow"/>
                    </a:rPr>
                    <a:t>AS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2571840" y="2216880"/>
                  <a:ext cx="1042560" cy="244440"/>
                </a:xfrm>
                <a:prstGeom prst="rect">
                  <a:avLst/>
                </a:prstGeom>
                <a:solidFill>
                  <a:srgbClr val="567eb9"/>
                </a:solidFill>
                <a:ln cap="rnd" w="47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2909880" y="2259720"/>
                  <a:ext cx="34956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 Narrow"/>
                    </a:rPr>
                    <a:t>APIC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8" name=""/>
            <p:cNvGrpSpPr/>
            <p:nvPr/>
          </p:nvGrpSpPr>
          <p:grpSpPr>
            <a:xfrm>
              <a:off x="4343040" y="1447920"/>
              <a:ext cx="2076480" cy="2491920"/>
              <a:chOff x="4343040" y="1447920"/>
              <a:chExt cx="2076480" cy="2491920"/>
            </a:xfrm>
          </p:grpSpPr>
          <p:sp>
            <p:nvSpPr>
              <p:cNvPr id="599" name=""/>
              <p:cNvSpPr/>
              <p:nvPr/>
            </p:nvSpPr>
            <p:spPr>
              <a:xfrm>
                <a:off x="4343400" y="1460520"/>
                <a:ext cx="2076120" cy="2479320"/>
              </a:xfrm>
              <a:prstGeom prst="rect">
                <a:avLst/>
              </a:prstGeom>
              <a:solidFill>
                <a:srgbClr val="ff7c8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0" name=""/>
              <p:cNvGrpSpPr/>
              <p:nvPr/>
            </p:nvGrpSpPr>
            <p:grpSpPr>
              <a:xfrm>
                <a:off x="4530600" y="1834920"/>
                <a:ext cx="1663560" cy="1755360"/>
                <a:chOff x="4530600" y="1834920"/>
                <a:chExt cx="1663560" cy="1755360"/>
              </a:xfrm>
            </p:grpSpPr>
            <p:sp>
              <p:nvSpPr>
                <p:cNvPr id="601" name=""/>
                <p:cNvSpPr/>
                <p:nvPr/>
              </p:nvSpPr>
              <p:spPr>
                <a:xfrm>
                  <a:off x="4546800" y="1860840"/>
                  <a:ext cx="1647360" cy="1729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24a8"/>
                    </a:gs>
                    <a:gs pos="100000">
                      <a:srgbClr val="00104d"/>
                    </a:gs>
                  </a:gsLst>
                  <a:lin ang="5400000"/>
                </a:gradFill>
                <a:ln cap="rnd"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02" name=""/>
                <p:cNvGrpSpPr/>
                <p:nvPr/>
              </p:nvGrpSpPr>
              <p:grpSpPr>
                <a:xfrm>
                  <a:off x="4530600" y="1834920"/>
                  <a:ext cx="1647360" cy="1737720"/>
                  <a:chOff x="4530600" y="1834920"/>
                  <a:chExt cx="1647360" cy="1737720"/>
                </a:xfrm>
              </p:grpSpPr>
              <p:sp>
                <p:nvSpPr>
                  <p:cNvPr id="603" name=""/>
                  <p:cNvSpPr/>
                  <p:nvPr/>
                </p:nvSpPr>
                <p:spPr>
                  <a:xfrm>
                    <a:off x="4530600" y="18349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4530600" y="18435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>
                    <a:off x="4530600" y="18522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>
                    <a:off x="4530600" y="18608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>
                    <a:off x="4530600" y="18694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>
                    <a:off x="4530600" y="18781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>
                    <a:off x="4530600" y="1886760"/>
                    <a:ext cx="1647360" cy="9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>
                    <a:off x="4530600" y="18961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>
                    <a:off x="4530600" y="19047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>
                    <a:off x="4530600" y="19134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>
                    <a:off x="4530600" y="19220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>
                    <a:off x="4530600" y="19310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>
                    <a:off x="4530600" y="19396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>
                    <a:off x="4530600" y="19483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>
                    <a:off x="4530600" y="19569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>
                    <a:off x="4530600" y="19656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4530600" y="19742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4530600" y="19828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>
                    <a:off x="4530600" y="19915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>
                    <a:off x="4530600" y="20001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>
                    <a:off x="4530600" y="20088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>
                    <a:off x="4530600" y="20174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4530600" y="20260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4530600" y="20347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>
                    <a:off x="4530600" y="20433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4530600" y="20520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4530600" y="20606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>
                    <a:off x="4530600" y="20692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>
                    <a:off x="4530600" y="20779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>
                    <a:off x="4530600" y="20865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>
                    <a:off x="4530600" y="20952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>
                    <a:off x="4530600" y="21042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>
                    <a:off x="4530600" y="21128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>
                    <a:off x="4530600" y="21214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4530600" y="21301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4530600" y="2138760"/>
                    <a:ext cx="1647360" cy="9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4530600" y="21481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4530600" y="21567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>
                    <a:off x="4530600" y="21657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>
                    <a:off x="4530600" y="21744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>
                    <a:off x="4530600" y="21830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>
                    <a:off x="4530600" y="21916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4530600" y="22003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4530600" y="22089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>
                    <a:off x="4530600" y="22176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>
                    <a:off x="4530600" y="22262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4530600" y="22348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>
                    <a:off x="4530600" y="22435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>
                    <a:off x="4530600" y="22521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>
                    <a:off x="4530600" y="22608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>
                    <a:off x="4530600" y="22694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>
                    <a:off x="4530600" y="22780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" name=""/>
                  <p:cNvSpPr/>
                  <p:nvPr/>
                </p:nvSpPr>
                <p:spPr>
                  <a:xfrm>
                    <a:off x="4530600" y="22867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6" name=""/>
                  <p:cNvSpPr/>
                  <p:nvPr/>
                </p:nvSpPr>
                <p:spPr>
                  <a:xfrm>
                    <a:off x="4530600" y="22953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4530600" y="23040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>
                    <a:off x="4530600" y="23126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>
                    <a:off x="4530600" y="23212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>
                    <a:off x="4530600" y="23299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>
                    <a:off x="4530600" y="23389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" name=""/>
                  <p:cNvSpPr/>
                  <p:nvPr/>
                </p:nvSpPr>
                <p:spPr>
                  <a:xfrm>
                    <a:off x="4530600" y="23475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>
                    <a:off x="4530600" y="23562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>
                    <a:off x="4530600" y="23648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>
                    <a:off x="4530600" y="23734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>
                    <a:off x="4530600" y="23821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" name=""/>
                  <p:cNvSpPr/>
                  <p:nvPr/>
                </p:nvSpPr>
                <p:spPr>
                  <a:xfrm>
                    <a:off x="4530600" y="23907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8" name=""/>
                  <p:cNvSpPr/>
                  <p:nvPr/>
                </p:nvSpPr>
                <p:spPr>
                  <a:xfrm>
                    <a:off x="4530600" y="2399400"/>
                    <a:ext cx="1647360" cy="9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9" name=""/>
                  <p:cNvSpPr/>
                  <p:nvPr/>
                </p:nvSpPr>
                <p:spPr>
                  <a:xfrm>
                    <a:off x="4530600" y="24087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0" name=""/>
                  <p:cNvSpPr/>
                  <p:nvPr/>
                </p:nvSpPr>
                <p:spPr>
                  <a:xfrm>
                    <a:off x="4530600" y="24174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>
                    <a:off x="4530600" y="24260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>
                    <a:off x="4530600" y="24346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>
                    <a:off x="4530600" y="24433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4" name=""/>
                  <p:cNvSpPr/>
                  <p:nvPr/>
                </p:nvSpPr>
                <p:spPr>
                  <a:xfrm>
                    <a:off x="4530600" y="24519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5" name=""/>
                  <p:cNvSpPr/>
                  <p:nvPr/>
                </p:nvSpPr>
                <p:spPr>
                  <a:xfrm>
                    <a:off x="4530600" y="24606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>
                    <a:off x="4530600" y="24692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>
                    <a:off x="4530600" y="24782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>
                    <a:off x="4530600" y="24868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>
                    <a:off x="4530600" y="24955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" name=""/>
                  <p:cNvSpPr/>
                  <p:nvPr/>
                </p:nvSpPr>
                <p:spPr>
                  <a:xfrm>
                    <a:off x="4530600" y="25041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>
                    <a:off x="4530600" y="25128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>
                    <a:off x="4530600" y="25214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"/>
                  <p:cNvSpPr/>
                  <p:nvPr/>
                </p:nvSpPr>
                <p:spPr>
                  <a:xfrm>
                    <a:off x="4530600" y="25300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>
                    <a:off x="4530600" y="25387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" name=""/>
                  <p:cNvSpPr/>
                  <p:nvPr/>
                </p:nvSpPr>
                <p:spPr>
                  <a:xfrm>
                    <a:off x="4530600" y="25473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>
                    <a:off x="4530600" y="25560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>
                    <a:off x="4530600" y="25646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" name=""/>
                  <p:cNvSpPr/>
                  <p:nvPr/>
                </p:nvSpPr>
                <p:spPr>
                  <a:xfrm>
                    <a:off x="4530600" y="25736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" name=""/>
                  <p:cNvSpPr/>
                  <p:nvPr/>
                </p:nvSpPr>
                <p:spPr>
                  <a:xfrm>
                    <a:off x="4530600" y="25822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" name=""/>
                  <p:cNvSpPr/>
                  <p:nvPr/>
                </p:nvSpPr>
                <p:spPr>
                  <a:xfrm>
                    <a:off x="4530600" y="25909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4530600" y="25995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>
                    <a:off x="4530600" y="26082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>
                    <a:off x="4530600" y="26168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>
                    <a:off x="4530600" y="26254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>
                    <a:off x="4530600" y="26341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4530600" y="26427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>
                    <a:off x="4530600" y="26514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>
                    <a:off x="4530600" y="2660040"/>
                    <a:ext cx="1647360" cy="9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>
                    <a:off x="4530600" y="26694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0" name=""/>
                  <p:cNvSpPr/>
                  <p:nvPr/>
                </p:nvSpPr>
                <p:spPr>
                  <a:xfrm>
                    <a:off x="4530600" y="26780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>
                    <a:off x="4530600" y="26866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" name=""/>
                  <p:cNvSpPr/>
                  <p:nvPr/>
                </p:nvSpPr>
                <p:spPr>
                  <a:xfrm>
                    <a:off x="4530600" y="26953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" name=""/>
                  <p:cNvSpPr/>
                  <p:nvPr/>
                </p:nvSpPr>
                <p:spPr>
                  <a:xfrm>
                    <a:off x="4530600" y="27039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" name=""/>
                  <p:cNvSpPr/>
                  <p:nvPr/>
                </p:nvSpPr>
                <p:spPr>
                  <a:xfrm>
                    <a:off x="4530600" y="27129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" name=""/>
                  <p:cNvSpPr/>
                  <p:nvPr/>
                </p:nvSpPr>
                <p:spPr>
                  <a:xfrm>
                    <a:off x="4530600" y="27216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6" name=""/>
                  <p:cNvSpPr/>
                  <p:nvPr/>
                </p:nvSpPr>
                <p:spPr>
                  <a:xfrm>
                    <a:off x="4530600" y="27302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"/>
                  <p:cNvSpPr/>
                  <p:nvPr/>
                </p:nvSpPr>
                <p:spPr>
                  <a:xfrm>
                    <a:off x="4530600" y="27388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" name=""/>
                  <p:cNvSpPr/>
                  <p:nvPr/>
                </p:nvSpPr>
                <p:spPr>
                  <a:xfrm>
                    <a:off x="4530600" y="27475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9" name=""/>
                  <p:cNvSpPr/>
                  <p:nvPr/>
                </p:nvSpPr>
                <p:spPr>
                  <a:xfrm>
                    <a:off x="4530600" y="27561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>
                    <a:off x="4530600" y="27648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1" name=""/>
                  <p:cNvSpPr/>
                  <p:nvPr/>
                </p:nvSpPr>
                <p:spPr>
                  <a:xfrm>
                    <a:off x="4530600" y="27734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>
                    <a:off x="4530600" y="27820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3" name=""/>
                  <p:cNvSpPr/>
                  <p:nvPr/>
                </p:nvSpPr>
                <p:spPr>
                  <a:xfrm>
                    <a:off x="4530600" y="27907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>
                    <a:off x="4530600" y="27993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" name=""/>
                  <p:cNvSpPr/>
                  <p:nvPr/>
                </p:nvSpPr>
                <p:spPr>
                  <a:xfrm>
                    <a:off x="4530600" y="28080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" name=""/>
                  <p:cNvSpPr/>
                  <p:nvPr/>
                </p:nvSpPr>
                <p:spPr>
                  <a:xfrm>
                    <a:off x="4530600" y="28166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" name=""/>
                  <p:cNvSpPr/>
                  <p:nvPr/>
                </p:nvSpPr>
                <p:spPr>
                  <a:xfrm>
                    <a:off x="4530600" y="28252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" name=""/>
                  <p:cNvSpPr/>
                  <p:nvPr/>
                </p:nvSpPr>
                <p:spPr>
                  <a:xfrm>
                    <a:off x="4530600" y="28339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" name=""/>
                  <p:cNvSpPr/>
                  <p:nvPr/>
                </p:nvSpPr>
                <p:spPr>
                  <a:xfrm>
                    <a:off x="4530600" y="28425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>
                    <a:off x="4530600" y="28512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" name=""/>
                  <p:cNvSpPr/>
                  <p:nvPr/>
                </p:nvSpPr>
                <p:spPr>
                  <a:xfrm>
                    <a:off x="4530600" y="28598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>
                    <a:off x="4530600" y="28684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>
                    <a:off x="4530600" y="28771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>
                    <a:off x="4530600" y="28857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>
                    <a:off x="4530600" y="28947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>
                    <a:off x="4530600" y="29034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>
                    <a:off x="4530600" y="2912040"/>
                    <a:ext cx="1647360" cy="9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>
                    <a:off x="4530600" y="29214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>
                    <a:off x="4530600" y="29300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" name=""/>
                  <p:cNvSpPr/>
                  <p:nvPr/>
                </p:nvSpPr>
                <p:spPr>
                  <a:xfrm>
                    <a:off x="4530600" y="29386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1" name=""/>
                  <p:cNvSpPr/>
                  <p:nvPr/>
                </p:nvSpPr>
                <p:spPr>
                  <a:xfrm>
                    <a:off x="4530600" y="29476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>
                    <a:off x="4530600" y="29563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4530600" y="29649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>
                    <a:off x="4530600" y="29736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>
                    <a:off x="4530600" y="29822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>
                    <a:off x="4530600" y="29908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>
                    <a:off x="4530600" y="29995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>
                    <a:off x="4530600" y="30081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" name=""/>
                  <p:cNvSpPr/>
                  <p:nvPr/>
                </p:nvSpPr>
                <p:spPr>
                  <a:xfrm>
                    <a:off x="4530600" y="30168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>
                    <a:off x="4530600" y="30254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>
                    <a:off x="4530600" y="30340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>
                    <a:off x="4530600" y="30427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>
                    <a:off x="4530600" y="30513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>
                    <a:off x="4530600" y="30600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>
                    <a:off x="4530600" y="30686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>
                    <a:off x="4530600" y="30772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"/>
                  <p:cNvSpPr/>
                  <p:nvPr/>
                </p:nvSpPr>
                <p:spPr>
                  <a:xfrm>
                    <a:off x="4530600" y="30859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" name=""/>
                  <p:cNvSpPr/>
                  <p:nvPr/>
                </p:nvSpPr>
                <p:spPr>
                  <a:xfrm>
                    <a:off x="4530600" y="30945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>
                    <a:off x="4530600" y="31032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>
                    <a:off x="4530600" y="31118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>
                    <a:off x="4530600" y="31208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" name=""/>
                  <p:cNvSpPr/>
                  <p:nvPr/>
                </p:nvSpPr>
                <p:spPr>
                  <a:xfrm>
                    <a:off x="4530600" y="31294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3" name=""/>
                  <p:cNvSpPr/>
                  <p:nvPr/>
                </p:nvSpPr>
                <p:spPr>
                  <a:xfrm>
                    <a:off x="4530600" y="31381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>
                    <a:off x="4530600" y="31467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>
                    <a:off x="4530600" y="31554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>
                    <a:off x="4530600" y="31640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>
                    <a:off x="4530600" y="3172680"/>
                    <a:ext cx="1647360" cy="9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" name=""/>
                  <p:cNvSpPr/>
                  <p:nvPr/>
                </p:nvSpPr>
                <p:spPr>
                  <a:xfrm>
                    <a:off x="4530600" y="31824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9" name=""/>
                  <p:cNvSpPr/>
                  <p:nvPr/>
                </p:nvSpPr>
                <p:spPr>
                  <a:xfrm>
                    <a:off x="4530600" y="31910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>
                    <a:off x="4530600" y="31996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>
                    <a:off x="4530600" y="32083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>
                    <a:off x="4530600" y="32169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>
                    <a:off x="4530600" y="32256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>
                    <a:off x="4530600" y="32342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>
                    <a:off x="4530600" y="32428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>
                    <a:off x="4530600" y="32515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7" name=""/>
                  <p:cNvSpPr/>
                  <p:nvPr/>
                </p:nvSpPr>
                <p:spPr>
                  <a:xfrm>
                    <a:off x="4530600" y="32601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8" name=""/>
                  <p:cNvSpPr/>
                  <p:nvPr/>
                </p:nvSpPr>
                <p:spPr>
                  <a:xfrm>
                    <a:off x="4530600" y="32688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>
                    <a:off x="4530600" y="32774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>
                    <a:off x="4530600" y="32860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>
                    <a:off x="4530600" y="32947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2" name=""/>
                  <p:cNvSpPr/>
                  <p:nvPr/>
                </p:nvSpPr>
                <p:spPr>
                  <a:xfrm>
                    <a:off x="4530600" y="33033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"/>
                  <p:cNvSpPr/>
                  <p:nvPr/>
                </p:nvSpPr>
                <p:spPr>
                  <a:xfrm>
                    <a:off x="4530600" y="33120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>
                    <a:off x="4530600" y="33206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>
                    <a:off x="4530600" y="33292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>
                    <a:off x="4530600" y="33379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>
                    <a:off x="4530600" y="33465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>
                    <a:off x="4530600" y="33555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>
                    <a:off x="4530600" y="33642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>
                    <a:off x="4530600" y="33728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>
                    <a:off x="4530600" y="33814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>
                    <a:off x="4530600" y="33901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3" name=""/>
                  <p:cNvSpPr/>
                  <p:nvPr/>
                </p:nvSpPr>
                <p:spPr>
                  <a:xfrm>
                    <a:off x="4530600" y="33987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>
                    <a:off x="4530600" y="34074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>
                    <a:off x="4530600" y="34160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>
                    <a:off x="4530600" y="3424680"/>
                    <a:ext cx="1647360" cy="9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>
                    <a:off x="4530600" y="34340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>
                    <a:off x="4530600" y="34426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>
                    <a:off x="4530600" y="34513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>
                    <a:off x="4530600" y="34599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>
                    <a:off x="4530600" y="34686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>
                    <a:off x="4530600" y="34772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>
                    <a:off x="4530600" y="34858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>
                    <a:off x="4530600" y="34948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>
                    <a:off x="4530600" y="35035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>
                    <a:off x="4530600" y="35121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>
                    <a:off x="4530600" y="35208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>
                    <a:off x="4530600" y="35294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>
                    <a:off x="4530600" y="35380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0" name=""/>
                  <p:cNvSpPr/>
                  <p:nvPr/>
                </p:nvSpPr>
                <p:spPr>
                  <a:xfrm>
                    <a:off x="4530600" y="35467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1" name=""/>
                  <p:cNvSpPr/>
                  <p:nvPr/>
                </p:nvSpPr>
                <p:spPr>
                  <a:xfrm>
                    <a:off x="4530600" y="35553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>
                    <a:off x="4530600" y="35640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3" name=""/>
                <p:cNvSpPr/>
                <p:nvPr/>
              </p:nvSpPr>
              <p:spPr>
                <a:xfrm>
                  <a:off x="4530600" y="1834920"/>
                  <a:ext cx="1647360" cy="1737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24a8"/>
                    </a:gs>
                    <a:gs pos="100000">
                      <a:srgbClr val="00104d"/>
                    </a:gs>
                  </a:gsLst>
                  <a:lin ang="5400000"/>
                </a:gradFill>
                <a:ln cap="rnd" w="63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4" name=""/>
              <p:cNvSpPr/>
              <p:nvPr/>
            </p:nvSpPr>
            <p:spPr>
              <a:xfrm>
                <a:off x="4343040" y="1447920"/>
                <a:ext cx="2026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HT Technology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359320" y="3584520"/>
                <a:ext cx="0" cy="22356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530600" y="3808440"/>
                <a:ext cx="1647720" cy="0"/>
              </a:xfrm>
              <a:prstGeom prst="line">
                <a:avLst/>
              </a:prstGeom>
              <a:ln w="792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07" name=""/>
              <p:cNvGrpSpPr/>
              <p:nvPr/>
            </p:nvGrpSpPr>
            <p:grpSpPr>
              <a:xfrm>
                <a:off x="4782960" y="1931760"/>
                <a:ext cx="495360" cy="499320"/>
                <a:chOff x="4782960" y="1931760"/>
                <a:chExt cx="495360" cy="499320"/>
              </a:xfrm>
            </p:grpSpPr>
            <p:sp>
              <p:nvSpPr>
                <p:cNvPr id="808" name=""/>
                <p:cNvSpPr/>
                <p:nvPr/>
              </p:nvSpPr>
              <p:spPr>
                <a:xfrm>
                  <a:off x="4782960" y="1931760"/>
                  <a:ext cx="495360" cy="247680"/>
                </a:xfrm>
                <a:prstGeom prst="rect">
                  <a:avLst/>
                </a:prstGeom>
                <a:solidFill>
                  <a:srgbClr val="a6cae1"/>
                </a:solidFill>
                <a:ln cap="rnd" w="47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4908960" y="1977120"/>
                  <a:ext cx="20340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 Narrow"/>
                    </a:rPr>
                    <a:t>AS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4782960" y="2177640"/>
                  <a:ext cx="495360" cy="239040"/>
                </a:xfrm>
                <a:prstGeom prst="rect">
                  <a:avLst/>
                </a:prstGeom>
                <a:solidFill>
                  <a:srgbClr val="567eb9"/>
                </a:solidFill>
                <a:ln cap="rnd" w="47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4855320" y="2217600"/>
                  <a:ext cx="34956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 Narrow"/>
                    </a:rPr>
                    <a:t>APIC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2" name=""/>
              <p:cNvGrpSpPr/>
              <p:nvPr/>
            </p:nvGrpSpPr>
            <p:grpSpPr>
              <a:xfrm>
                <a:off x="5402160" y="1931760"/>
                <a:ext cx="495360" cy="499320"/>
                <a:chOff x="5402160" y="1931760"/>
                <a:chExt cx="495360" cy="499320"/>
              </a:xfrm>
            </p:grpSpPr>
            <p:sp>
              <p:nvSpPr>
                <p:cNvPr id="813" name=""/>
                <p:cNvSpPr/>
                <p:nvPr/>
              </p:nvSpPr>
              <p:spPr>
                <a:xfrm>
                  <a:off x="5402160" y="1931760"/>
                  <a:ext cx="495360" cy="247680"/>
                </a:xfrm>
                <a:prstGeom prst="rect">
                  <a:avLst/>
                </a:prstGeom>
                <a:solidFill>
                  <a:srgbClr val="a6cae1"/>
                </a:solidFill>
                <a:ln cap="rnd" w="47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5532120" y="1977120"/>
                  <a:ext cx="20340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 Narrow"/>
                    </a:rPr>
                    <a:t>AS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5402160" y="2177640"/>
                  <a:ext cx="495360" cy="239040"/>
                </a:xfrm>
                <a:prstGeom prst="rect">
                  <a:avLst/>
                </a:prstGeom>
                <a:solidFill>
                  <a:srgbClr val="567eb9"/>
                </a:solidFill>
                <a:ln cap="rnd" w="47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5474520" y="2217600"/>
                  <a:ext cx="34956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 Narrow"/>
                    </a:rPr>
                    <a:t>APIC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7" name=""/>
              <p:cNvSpPr/>
              <p:nvPr/>
            </p:nvSpPr>
            <p:spPr>
              <a:xfrm>
                <a:off x="4651200" y="2506680"/>
                <a:ext cx="1425600" cy="941040"/>
              </a:xfrm>
              <a:prstGeom prst="rect">
                <a:avLst/>
              </a:prstGeom>
              <a:gradFill rotWithShape="0">
                <a:gsLst>
                  <a:gs pos="0">
                    <a:srgbClr val="0c2e86"/>
                  </a:gs>
                  <a:gs pos="100000">
                    <a:srgbClr val="05153d"/>
                  </a:gs>
                </a:gsLst>
                <a:lin ang="5400000"/>
              </a:gradFill>
              <a:ln cap="rnd" w="47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 Narrow"/>
                  </a:rPr>
                  <a:t>PE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18" name=""/>
            <p:cNvGrpSpPr/>
            <p:nvPr/>
          </p:nvGrpSpPr>
          <p:grpSpPr>
            <a:xfrm>
              <a:off x="6629400" y="1447920"/>
              <a:ext cx="2286000" cy="2479680"/>
              <a:chOff x="6629400" y="1447920"/>
              <a:chExt cx="2286000" cy="2479680"/>
            </a:xfrm>
          </p:grpSpPr>
          <p:sp>
            <p:nvSpPr>
              <p:cNvPr id="819" name=""/>
              <p:cNvSpPr/>
              <p:nvPr/>
            </p:nvSpPr>
            <p:spPr>
              <a:xfrm>
                <a:off x="6629400" y="1447920"/>
                <a:ext cx="2286000" cy="2479680"/>
              </a:xfrm>
              <a:prstGeom prst="rect">
                <a:avLst/>
              </a:prstGeom>
              <a:solidFill>
                <a:srgbClr val="0860a8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20" name=""/>
              <p:cNvGrpSpPr/>
              <p:nvPr/>
            </p:nvGrpSpPr>
            <p:grpSpPr>
              <a:xfrm>
                <a:off x="6781680" y="1828800"/>
                <a:ext cx="1981080" cy="1755720"/>
                <a:chOff x="6781680" y="1828800"/>
                <a:chExt cx="1981080" cy="1755720"/>
              </a:xfrm>
            </p:grpSpPr>
            <p:sp>
              <p:nvSpPr>
                <p:cNvPr id="821" name=""/>
                <p:cNvSpPr/>
                <p:nvPr/>
              </p:nvSpPr>
              <p:spPr>
                <a:xfrm>
                  <a:off x="6800760" y="1854720"/>
                  <a:ext cx="1962000" cy="1729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24a8"/>
                    </a:gs>
                    <a:gs pos="100000">
                      <a:srgbClr val="00104d"/>
                    </a:gs>
                  </a:gsLst>
                  <a:lin ang="5400000"/>
                </a:gradFill>
                <a:ln cap="rnd"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22" name=""/>
                <p:cNvGrpSpPr/>
                <p:nvPr/>
              </p:nvGrpSpPr>
              <p:grpSpPr>
                <a:xfrm>
                  <a:off x="6781680" y="1828800"/>
                  <a:ext cx="1962360" cy="1738080"/>
                  <a:chOff x="6781680" y="1828800"/>
                  <a:chExt cx="1962360" cy="1738080"/>
                </a:xfrm>
              </p:grpSpPr>
              <p:sp>
                <p:nvSpPr>
                  <p:cNvPr id="823" name=""/>
                  <p:cNvSpPr/>
                  <p:nvPr/>
                </p:nvSpPr>
                <p:spPr>
                  <a:xfrm>
                    <a:off x="6781680" y="182880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4" name=""/>
                  <p:cNvSpPr/>
                  <p:nvPr/>
                </p:nvSpPr>
                <p:spPr>
                  <a:xfrm>
                    <a:off x="6781680" y="183744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5" name=""/>
                  <p:cNvSpPr/>
                  <p:nvPr/>
                </p:nvSpPr>
                <p:spPr>
                  <a:xfrm>
                    <a:off x="6781680" y="184608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6" name=""/>
                  <p:cNvSpPr/>
                  <p:nvPr/>
                </p:nvSpPr>
                <p:spPr>
                  <a:xfrm>
                    <a:off x="6781680" y="185472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>
                    <a:off x="6781680" y="186336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>
                    <a:off x="6781680" y="187200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>
                    <a:off x="6781680" y="1880640"/>
                    <a:ext cx="1962360" cy="9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6781680" y="189000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>
                    <a:off x="6781680" y="189864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"/>
                  <p:cNvSpPr/>
                  <p:nvPr/>
                </p:nvSpPr>
                <p:spPr>
                  <a:xfrm>
                    <a:off x="6781680" y="190728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>
                    <a:off x="6781680" y="191592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>
                    <a:off x="6781680" y="192492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>
                    <a:off x="6781680" y="193356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>
                    <a:off x="6781680" y="194220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7" name=""/>
                  <p:cNvSpPr/>
                  <p:nvPr/>
                </p:nvSpPr>
                <p:spPr>
                  <a:xfrm>
                    <a:off x="6781680" y="195084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8" name=""/>
                  <p:cNvSpPr/>
                  <p:nvPr/>
                </p:nvSpPr>
                <p:spPr>
                  <a:xfrm>
                    <a:off x="6781680" y="195948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>
                    <a:off x="6781680" y="196812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>
                    <a:off x="6781680" y="197676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>
                    <a:off x="6781680" y="198540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2" name=""/>
                  <p:cNvSpPr/>
                  <p:nvPr/>
                </p:nvSpPr>
                <p:spPr>
                  <a:xfrm>
                    <a:off x="6781680" y="199404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3" name=""/>
                  <p:cNvSpPr/>
                  <p:nvPr/>
                </p:nvSpPr>
                <p:spPr>
                  <a:xfrm>
                    <a:off x="6781680" y="200268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4" name=""/>
                  <p:cNvSpPr/>
                  <p:nvPr/>
                </p:nvSpPr>
                <p:spPr>
                  <a:xfrm>
                    <a:off x="6781680" y="201132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>
                    <a:off x="6781680" y="201996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>
                    <a:off x="6781680" y="202860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7" name=""/>
                  <p:cNvSpPr/>
                  <p:nvPr/>
                </p:nvSpPr>
                <p:spPr>
                  <a:xfrm>
                    <a:off x="6781680" y="203724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8" name=""/>
                  <p:cNvSpPr/>
                  <p:nvPr/>
                </p:nvSpPr>
                <p:spPr>
                  <a:xfrm>
                    <a:off x="6781680" y="204588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>
                    <a:off x="6781680" y="205452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>
                    <a:off x="6781680" y="206316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>
                    <a:off x="6781680" y="207180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>
                    <a:off x="6781680" y="208044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"/>
                  <p:cNvSpPr/>
                  <p:nvPr/>
                </p:nvSpPr>
                <p:spPr>
                  <a:xfrm>
                    <a:off x="6781680" y="208908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" name=""/>
                  <p:cNvSpPr/>
                  <p:nvPr/>
                </p:nvSpPr>
                <p:spPr>
                  <a:xfrm>
                    <a:off x="6781680" y="209808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" name=""/>
                  <p:cNvSpPr/>
                  <p:nvPr/>
                </p:nvSpPr>
                <p:spPr>
                  <a:xfrm>
                    <a:off x="6781680" y="210672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>
                    <a:off x="6781680" y="211536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>
                    <a:off x="6781680" y="212400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>
                    <a:off x="6781680" y="2132640"/>
                    <a:ext cx="1962360" cy="9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>
                    <a:off x="6781680" y="214200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"/>
                  <p:cNvSpPr/>
                  <p:nvPr/>
                </p:nvSpPr>
                <p:spPr>
                  <a:xfrm>
                    <a:off x="6781680" y="215064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" name=""/>
                  <p:cNvSpPr/>
                  <p:nvPr/>
                </p:nvSpPr>
                <p:spPr>
                  <a:xfrm>
                    <a:off x="6781680" y="215964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"/>
                  <p:cNvSpPr/>
                  <p:nvPr/>
                </p:nvSpPr>
                <p:spPr>
                  <a:xfrm>
                    <a:off x="6781680" y="216828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3" name=""/>
                  <p:cNvSpPr/>
                  <p:nvPr/>
                </p:nvSpPr>
                <p:spPr>
                  <a:xfrm>
                    <a:off x="6781680" y="217692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4" name=""/>
                  <p:cNvSpPr/>
                  <p:nvPr/>
                </p:nvSpPr>
                <p:spPr>
                  <a:xfrm>
                    <a:off x="6781680" y="218556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>
                    <a:off x="6781680" y="219420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>
                    <a:off x="6781680" y="220284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7" name=""/>
                  <p:cNvSpPr/>
                  <p:nvPr/>
                </p:nvSpPr>
                <p:spPr>
                  <a:xfrm>
                    <a:off x="6781680" y="221148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>
                    <a:off x="6781680" y="222012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>
                    <a:off x="6781680" y="222876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>
                    <a:off x="6781680" y="223740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1" name=""/>
                  <p:cNvSpPr/>
                  <p:nvPr/>
                </p:nvSpPr>
                <p:spPr>
                  <a:xfrm>
                    <a:off x="6781680" y="224604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"/>
                  <p:cNvSpPr/>
                  <p:nvPr/>
                </p:nvSpPr>
                <p:spPr>
                  <a:xfrm>
                    <a:off x="6781680" y="225468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3" name=""/>
                  <p:cNvSpPr/>
                  <p:nvPr/>
                </p:nvSpPr>
                <p:spPr>
                  <a:xfrm>
                    <a:off x="6781680" y="226332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4" name=""/>
                  <p:cNvSpPr/>
                  <p:nvPr/>
                </p:nvSpPr>
                <p:spPr>
                  <a:xfrm>
                    <a:off x="6781680" y="227196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>
                    <a:off x="6781680" y="228060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>
                    <a:off x="6781680" y="228924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>
                    <a:off x="6781680" y="229788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>
                    <a:off x="6781680" y="230652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9" name=""/>
                  <p:cNvSpPr/>
                  <p:nvPr/>
                </p:nvSpPr>
                <p:spPr>
                  <a:xfrm>
                    <a:off x="6781680" y="231516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0" name=""/>
                  <p:cNvSpPr/>
                  <p:nvPr/>
                </p:nvSpPr>
                <p:spPr>
                  <a:xfrm>
                    <a:off x="6781680" y="232380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1" name=""/>
                  <p:cNvSpPr/>
                  <p:nvPr/>
                </p:nvSpPr>
                <p:spPr>
                  <a:xfrm>
                    <a:off x="6781680" y="233280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2" name=""/>
                  <p:cNvSpPr/>
                  <p:nvPr/>
                </p:nvSpPr>
                <p:spPr>
                  <a:xfrm>
                    <a:off x="6781680" y="234144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3" name=""/>
                  <p:cNvSpPr/>
                  <p:nvPr/>
                </p:nvSpPr>
                <p:spPr>
                  <a:xfrm>
                    <a:off x="6781680" y="235008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4" name=""/>
                  <p:cNvSpPr/>
                  <p:nvPr/>
                </p:nvSpPr>
                <p:spPr>
                  <a:xfrm>
                    <a:off x="6781680" y="235872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5" name=""/>
                  <p:cNvSpPr/>
                  <p:nvPr/>
                </p:nvSpPr>
                <p:spPr>
                  <a:xfrm>
                    <a:off x="6781680" y="236736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6" name=""/>
                  <p:cNvSpPr/>
                  <p:nvPr/>
                </p:nvSpPr>
                <p:spPr>
                  <a:xfrm>
                    <a:off x="6781680" y="237600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"/>
                  <p:cNvSpPr/>
                  <p:nvPr/>
                </p:nvSpPr>
                <p:spPr>
                  <a:xfrm>
                    <a:off x="6781680" y="238464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8" name=""/>
                  <p:cNvSpPr/>
                  <p:nvPr/>
                </p:nvSpPr>
                <p:spPr>
                  <a:xfrm>
                    <a:off x="6781680" y="2393280"/>
                    <a:ext cx="1962360" cy="9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9" name=""/>
                  <p:cNvSpPr/>
                  <p:nvPr/>
                </p:nvSpPr>
                <p:spPr>
                  <a:xfrm>
                    <a:off x="6781680" y="240300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0" name=""/>
                  <p:cNvSpPr/>
                  <p:nvPr/>
                </p:nvSpPr>
                <p:spPr>
                  <a:xfrm>
                    <a:off x="6781680" y="241164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1" name=""/>
                  <p:cNvSpPr/>
                  <p:nvPr/>
                </p:nvSpPr>
                <p:spPr>
                  <a:xfrm>
                    <a:off x="6781680" y="242028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2" name=""/>
                  <p:cNvSpPr/>
                  <p:nvPr/>
                </p:nvSpPr>
                <p:spPr>
                  <a:xfrm>
                    <a:off x="6781680" y="242892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" name=""/>
                  <p:cNvSpPr/>
                  <p:nvPr/>
                </p:nvSpPr>
                <p:spPr>
                  <a:xfrm>
                    <a:off x="6781680" y="243756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" name=""/>
                  <p:cNvSpPr/>
                  <p:nvPr/>
                </p:nvSpPr>
                <p:spPr>
                  <a:xfrm>
                    <a:off x="6781680" y="244620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5" name=""/>
                  <p:cNvSpPr/>
                  <p:nvPr/>
                </p:nvSpPr>
                <p:spPr>
                  <a:xfrm>
                    <a:off x="6781680" y="245484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6" name=""/>
                  <p:cNvSpPr/>
                  <p:nvPr/>
                </p:nvSpPr>
                <p:spPr>
                  <a:xfrm>
                    <a:off x="6781680" y="246348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7" name=""/>
                  <p:cNvSpPr/>
                  <p:nvPr/>
                </p:nvSpPr>
                <p:spPr>
                  <a:xfrm>
                    <a:off x="6781680" y="247212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8" name=""/>
                  <p:cNvSpPr/>
                  <p:nvPr/>
                </p:nvSpPr>
                <p:spPr>
                  <a:xfrm>
                    <a:off x="6781680" y="248076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9" name=""/>
                  <p:cNvSpPr/>
                  <p:nvPr/>
                </p:nvSpPr>
                <p:spPr>
                  <a:xfrm>
                    <a:off x="6781680" y="248940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0" name=""/>
                  <p:cNvSpPr/>
                  <p:nvPr/>
                </p:nvSpPr>
                <p:spPr>
                  <a:xfrm>
                    <a:off x="6781680" y="249804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>
                    <a:off x="6781680" y="250668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>
                    <a:off x="6781680" y="251532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>
                    <a:off x="6781680" y="252396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>
                    <a:off x="6781680" y="253260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5" name=""/>
                  <p:cNvSpPr/>
                  <p:nvPr/>
                </p:nvSpPr>
                <p:spPr>
                  <a:xfrm>
                    <a:off x="6781680" y="254124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6" name=""/>
                  <p:cNvSpPr/>
                  <p:nvPr/>
                </p:nvSpPr>
                <p:spPr>
                  <a:xfrm>
                    <a:off x="6781680" y="254988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7" name=""/>
                  <p:cNvSpPr/>
                  <p:nvPr/>
                </p:nvSpPr>
                <p:spPr>
                  <a:xfrm>
                    <a:off x="6781680" y="255852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8" name=""/>
                  <p:cNvSpPr/>
                  <p:nvPr/>
                </p:nvSpPr>
                <p:spPr>
                  <a:xfrm>
                    <a:off x="6781680" y="256752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9" name=""/>
                  <p:cNvSpPr/>
                  <p:nvPr/>
                </p:nvSpPr>
                <p:spPr>
                  <a:xfrm>
                    <a:off x="6781680" y="257616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0" name=""/>
                  <p:cNvSpPr/>
                  <p:nvPr/>
                </p:nvSpPr>
                <p:spPr>
                  <a:xfrm>
                    <a:off x="6781680" y="258480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>
                    <a:off x="6781680" y="259344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>
                    <a:off x="6781680" y="260208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3" name=""/>
                  <p:cNvSpPr/>
                  <p:nvPr/>
                </p:nvSpPr>
                <p:spPr>
                  <a:xfrm>
                    <a:off x="6781680" y="261072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4" name=""/>
                  <p:cNvSpPr/>
                  <p:nvPr/>
                </p:nvSpPr>
                <p:spPr>
                  <a:xfrm>
                    <a:off x="6781680" y="261936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>
                    <a:off x="6781680" y="262800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>
                    <a:off x="6781680" y="263664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7" name=""/>
                  <p:cNvSpPr/>
                  <p:nvPr/>
                </p:nvSpPr>
                <p:spPr>
                  <a:xfrm>
                    <a:off x="6781680" y="264528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>
                    <a:off x="6781680" y="2654280"/>
                    <a:ext cx="1962360" cy="9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>
                    <a:off x="6781680" y="266364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0" name=""/>
                  <p:cNvSpPr/>
                  <p:nvPr/>
                </p:nvSpPr>
                <p:spPr>
                  <a:xfrm>
                    <a:off x="6781680" y="267228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1" name=""/>
                  <p:cNvSpPr/>
                  <p:nvPr/>
                </p:nvSpPr>
                <p:spPr>
                  <a:xfrm>
                    <a:off x="6781680" y="268092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2" name=""/>
                  <p:cNvSpPr/>
                  <p:nvPr/>
                </p:nvSpPr>
                <p:spPr>
                  <a:xfrm>
                    <a:off x="6781680" y="268956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>
                    <a:off x="6781680" y="269820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>
                    <a:off x="6781680" y="270684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>
                    <a:off x="6781680" y="271548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6" name=""/>
                  <p:cNvSpPr/>
                  <p:nvPr/>
                </p:nvSpPr>
                <p:spPr>
                  <a:xfrm>
                    <a:off x="6781680" y="272412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>
                    <a:off x="6781680" y="273276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8" name=""/>
                  <p:cNvSpPr/>
                  <p:nvPr/>
                </p:nvSpPr>
                <p:spPr>
                  <a:xfrm>
                    <a:off x="6781680" y="274140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9" name=""/>
                  <p:cNvSpPr/>
                  <p:nvPr/>
                </p:nvSpPr>
                <p:spPr>
                  <a:xfrm>
                    <a:off x="6781680" y="275004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6781680" y="275868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>
                    <a:off x="6781680" y="276732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>
                    <a:off x="6781680" y="277596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>
                    <a:off x="6781680" y="278460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>
                    <a:off x="6781680" y="279360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5" name=""/>
                  <p:cNvSpPr/>
                  <p:nvPr/>
                </p:nvSpPr>
                <p:spPr>
                  <a:xfrm>
                    <a:off x="6781680" y="280224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6" name=""/>
                  <p:cNvSpPr/>
                  <p:nvPr/>
                </p:nvSpPr>
                <p:spPr>
                  <a:xfrm>
                    <a:off x="6781680" y="281088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7" name=""/>
                  <p:cNvSpPr/>
                  <p:nvPr/>
                </p:nvSpPr>
                <p:spPr>
                  <a:xfrm>
                    <a:off x="6781680" y="281952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>
                    <a:off x="6781680" y="282816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>
                    <a:off x="6781680" y="283680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>
                    <a:off x="6781680" y="284544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" name=""/>
                  <p:cNvSpPr/>
                  <p:nvPr/>
                </p:nvSpPr>
                <p:spPr>
                  <a:xfrm>
                    <a:off x="6781680" y="285408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" name=""/>
                  <p:cNvSpPr/>
                  <p:nvPr/>
                </p:nvSpPr>
                <p:spPr>
                  <a:xfrm>
                    <a:off x="6781680" y="286272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3" name=""/>
                  <p:cNvSpPr/>
                  <p:nvPr/>
                </p:nvSpPr>
                <p:spPr>
                  <a:xfrm>
                    <a:off x="6781680" y="287136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4" name=""/>
                  <p:cNvSpPr/>
                  <p:nvPr/>
                </p:nvSpPr>
                <p:spPr>
                  <a:xfrm>
                    <a:off x="6781680" y="288000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>
                    <a:off x="6781680" y="288900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>
                    <a:off x="6781680" y="289764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>
                    <a:off x="6781680" y="2906280"/>
                    <a:ext cx="1962360" cy="9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>
                    <a:off x="6781680" y="291564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9" name=""/>
                  <p:cNvSpPr/>
                  <p:nvPr/>
                </p:nvSpPr>
                <p:spPr>
                  <a:xfrm>
                    <a:off x="6781680" y="292428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0" name=""/>
                  <p:cNvSpPr/>
                  <p:nvPr/>
                </p:nvSpPr>
                <p:spPr>
                  <a:xfrm>
                    <a:off x="6781680" y="293292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1" name=""/>
                  <p:cNvSpPr/>
                  <p:nvPr/>
                </p:nvSpPr>
                <p:spPr>
                  <a:xfrm>
                    <a:off x="6781680" y="294156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" name=""/>
                  <p:cNvSpPr/>
                  <p:nvPr/>
                </p:nvSpPr>
                <p:spPr>
                  <a:xfrm>
                    <a:off x="6781680" y="295020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3" name=""/>
                  <p:cNvSpPr/>
                  <p:nvPr/>
                </p:nvSpPr>
                <p:spPr>
                  <a:xfrm>
                    <a:off x="6781680" y="295884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>
                    <a:off x="6781680" y="296748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5" name=""/>
                  <p:cNvSpPr/>
                  <p:nvPr/>
                </p:nvSpPr>
                <p:spPr>
                  <a:xfrm>
                    <a:off x="6781680" y="297612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6" name=""/>
                  <p:cNvSpPr/>
                  <p:nvPr/>
                </p:nvSpPr>
                <p:spPr>
                  <a:xfrm>
                    <a:off x="6781680" y="298476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7" name=""/>
                  <p:cNvSpPr/>
                  <p:nvPr/>
                </p:nvSpPr>
                <p:spPr>
                  <a:xfrm>
                    <a:off x="6781680" y="299340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8" name=""/>
                  <p:cNvSpPr/>
                  <p:nvPr/>
                </p:nvSpPr>
                <p:spPr>
                  <a:xfrm>
                    <a:off x="6781680" y="300204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9" name=""/>
                  <p:cNvSpPr/>
                  <p:nvPr/>
                </p:nvSpPr>
                <p:spPr>
                  <a:xfrm>
                    <a:off x="6781680" y="301068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>
                    <a:off x="6781680" y="301932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1" name=""/>
                  <p:cNvSpPr/>
                  <p:nvPr/>
                </p:nvSpPr>
                <p:spPr>
                  <a:xfrm>
                    <a:off x="6781680" y="302832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2" name=""/>
                  <p:cNvSpPr/>
                  <p:nvPr/>
                </p:nvSpPr>
                <p:spPr>
                  <a:xfrm>
                    <a:off x="6781680" y="303696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3" name=""/>
                  <p:cNvSpPr/>
                  <p:nvPr/>
                </p:nvSpPr>
                <p:spPr>
                  <a:xfrm>
                    <a:off x="6781680" y="304560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4" name=""/>
                  <p:cNvSpPr/>
                  <p:nvPr/>
                </p:nvSpPr>
                <p:spPr>
                  <a:xfrm>
                    <a:off x="6781680" y="305424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5" name=""/>
                  <p:cNvSpPr/>
                  <p:nvPr/>
                </p:nvSpPr>
                <p:spPr>
                  <a:xfrm>
                    <a:off x="6781680" y="306288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6" name=""/>
                  <p:cNvSpPr/>
                  <p:nvPr/>
                </p:nvSpPr>
                <p:spPr>
                  <a:xfrm>
                    <a:off x="6781680" y="307152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7" name=""/>
                  <p:cNvSpPr/>
                  <p:nvPr/>
                </p:nvSpPr>
                <p:spPr>
                  <a:xfrm>
                    <a:off x="6781680" y="308016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>
                    <a:off x="6781680" y="308880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6781680" y="309744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>
                    <a:off x="6781680" y="310608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>
                    <a:off x="6781680" y="311508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2" name=""/>
                  <p:cNvSpPr/>
                  <p:nvPr/>
                </p:nvSpPr>
                <p:spPr>
                  <a:xfrm>
                    <a:off x="6781680" y="312372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3" name=""/>
                  <p:cNvSpPr/>
                  <p:nvPr/>
                </p:nvSpPr>
                <p:spPr>
                  <a:xfrm>
                    <a:off x="6781680" y="313236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" name=""/>
                  <p:cNvSpPr/>
                  <p:nvPr/>
                </p:nvSpPr>
                <p:spPr>
                  <a:xfrm>
                    <a:off x="6781680" y="314100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>
                    <a:off x="6781680" y="314964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6" name=""/>
                  <p:cNvSpPr/>
                  <p:nvPr/>
                </p:nvSpPr>
                <p:spPr>
                  <a:xfrm>
                    <a:off x="6781680" y="315828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7" name=""/>
                  <p:cNvSpPr/>
                  <p:nvPr/>
                </p:nvSpPr>
                <p:spPr>
                  <a:xfrm>
                    <a:off x="6781680" y="3166920"/>
                    <a:ext cx="1962360" cy="9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8" name=""/>
                  <p:cNvSpPr/>
                  <p:nvPr/>
                </p:nvSpPr>
                <p:spPr>
                  <a:xfrm>
                    <a:off x="6781680" y="317628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9" name=""/>
                  <p:cNvSpPr/>
                  <p:nvPr/>
                </p:nvSpPr>
                <p:spPr>
                  <a:xfrm>
                    <a:off x="6781680" y="318492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0" name=""/>
                  <p:cNvSpPr/>
                  <p:nvPr/>
                </p:nvSpPr>
                <p:spPr>
                  <a:xfrm>
                    <a:off x="6781680" y="319356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>
                    <a:off x="6781680" y="320220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2" name=""/>
                  <p:cNvSpPr/>
                  <p:nvPr/>
                </p:nvSpPr>
                <p:spPr>
                  <a:xfrm>
                    <a:off x="6781680" y="321084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3" name=""/>
                  <p:cNvSpPr/>
                  <p:nvPr/>
                </p:nvSpPr>
                <p:spPr>
                  <a:xfrm>
                    <a:off x="6781680" y="321948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>
                    <a:off x="6781680" y="322812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5" name=""/>
                  <p:cNvSpPr/>
                  <p:nvPr/>
                </p:nvSpPr>
                <p:spPr>
                  <a:xfrm>
                    <a:off x="6781680" y="323676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6" name=""/>
                  <p:cNvSpPr/>
                  <p:nvPr/>
                </p:nvSpPr>
                <p:spPr>
                  <a:xfrm>
                    <a:off x="6781680" y="324540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7" name=""/>
                  <p:cNvSpPr/>
                  <p:nvPr/>
                </p:nvSpPr>
                <p:spPr>
                  <a:xfrm>
                    <a:off x="6781680" y="325404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8" name=""/>
                  <p:cNvSpPr/>
                  <p:nvPr/>
                </p:nvSpPr>
                <p:spPr>
                  <a:xfrm>
                    <a:off x="6781680" y="326304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>
                    <a:off x="6781680" y="327168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>
                    <a:off x="6781680" y="328032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1" name=""/>
                  <p:cNvSpPr/>
                  <p:nvPr/>
                </p:nvSpPr>
                <p:spPr>
                  <a:xfrm>
                    <a:off x="6781680" y="328896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2" name=""/>
                  <p:cNvSpPr/>
                  <p:nvPr/>
                </p:nvSpPr>
                <p:spPr>
                  <a:xfrm>
                    <a:off x="6781680" y="329760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>
                    <a:off x="6781680" y="330624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4" name=""/>
                  <p:cNvSpPr/>
                  <p:nvPr/>
                </p:nvSpPr>
                <p:spPr>
                  <a:xfrm>
                    <a:off x="6781680" y="331488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5" name=""/>
                  <p:cNvSpPr/>
                  <p:nvPr/>
                </p:nvSpPr>
                <p:spPr>
                  <a:xfrm>
                    <a:off x="6781680" y="332352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>
                    <a:off x="6781680" y="333216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7" name=""/>
                  <p:cNvSpPr/>
                  <p:nvPr/>
                </p:nvSpPr>
                <p:spPr>
                  <a:xfrm>
                    <a:off x="6781680" y="334080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8" name=""/>
                  <p:cNvSpPr/>
                  <p:nvPr/>
                </p:nvSpPr>
                <p:spPr>
                  <a:xfrm>
                    <a:off x="6781680" y="334980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9" name=""/>
                  <p:cNvSpPr/>
                  <p:nvPr/>
                </p:nvSpPr>
                <p:spPr>
                  <a:xfrm>
                    <a:off x="6781680" y="335844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0" name=""/>
                  <p:cNvSpPr/>
                  <p:nvPr/>
                </p:nvSpPr>
                <p:spPr>
                  <a:xfrm>
                    <a:off x="6781680" y="336708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1" name=""/>
                  <p:cNvSpPr/>
                  <p:nvPr/>
                </p:nvSpPr>
                <p:spPr>
                  <a:xfrm>
                    <a:off x="6781680" y="337572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2" name=""/>
                  <p:cNvSpPr/>
                  <p:nvPr/>
                </p:nvSpPr>
                <p:spPr>
                  <a:xfrm>
                    <a:off x="6781680" y="338436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>
                    <a:off x="6781680" y="339300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4" name=""/>
                  <p:cNvSpPr/>
                  <p:nvPr/>
                </p:nvSpPr>
                <p:spPr>
                  <a:xfrm>
                    <a:off x="6781680" y="340164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5" name=""/>
                  <p:cNvSpPr/>
                  <p:nvPr/>
                </p:nvSpPr>
                <p:spPr>
                  <a:xfrm>
                    <a:off x="6781680" y="341028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6" name=""/>
                  <p:cNvSpPr/>
                  <p:nvPr/>
                </p:nvSpPr>
                <p:spPr>
                  <a:xfrm>
                    <a:off x="6781680" y="3418920"/>
                    <a:ext cx="1962360" cy="9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7" name=""/>
                  <p:cNvSpPr/>
                  <p:nvPr/>
                </p:nvSpPr>
                <p:spPr>
                  <a:xfrm>
                    <a:off x="6781680" y="342828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8" name=""/>
                  <p:cNvSpPr/>
                  <p:nvPr/>
                </p:nvSpPr>
                <p:spPr>
                  <a:xfrm>
                    <a:off x="6781680" y="343692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9" name=""/>
                  <p:cNvSpPr/>
                  <p:nvPr/>
                </p:nvSpPr>
                <p:spPr>
                  <a:xfrm>
                    <a:off x="6781680" y="344556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0" name=""/>
                  <p:cNvSpPr/>
                  <p:nvPr/>
                </p:nvSpPr>
                <p:spPr>
                  <a:xfrm>
                    <a:off x="6781680" y="345420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" name=""/>
                  <p:cNvSpPr/>
                  <p:nvPr/>
                </p:nvSpPr>
                <p:spPr>
                  <a:xfrm>
                    <a:off x="6781680" y="346284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2" name=""/>
                  <p:cNvSpPr/>
                  <p:nvPr/>
                </p:nvSpPr>
                <p:spPr>
                  <a:xfrm>
                    <a:off x="6781680" y="347148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3" name=""/>
                  <p:cNvSpPr/>
                  <p:nvPr/>
                </p:nvSpPr>
                <p:spPr>
                  <a:xfrm>
                    <a:off x="6781680" y="348012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4" name=""/>
                  <p:cNvSpPr/>
                  <p:nvPr/>
                </p:nvSpPr>
                <p:spPr>
                  <a:xfrm>
                    <a:off x="6781680" y="348912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5" name=""/>
                  <p:cNvSpPr/>
                  <p:nvPr/>
                </p:nvSpPr>
                <p:spPr>
                  <a:xfrm>
                    <a:off x="6781680" y="349776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6" name=""/>
                  <p:cNvSpPr/>
                  <p:nvPr/>
                </p:nvSpPr>
                <p:spPr>
                  <a:xfrm>
                    <a:off x="6781680" y="350640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"/>
                  <p:cNvSpPr/>
                  <p:nvPr/>
                </p:nvSpPr>
                <p:spPr>
                  <a:xfrm>
                    <a:off x="6781680" y="351504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>
                    <a:off x="6781680" y="352368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9" name=""/>
                  <p:cNvSpPr/>
                  <p:nvPr/>
                </p:nvSpPr>
                <p:spPr>
                  <a:xfrm>
                    <a:off x="6781680" y="353232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0" name=""/>
                  <p:cNvSpPr/>
                  <p:nvPr/>
                </p:nvSpPr>
                <p:spPr>
                  <a:xfrm>
                    <a:off x="6781680" y="354096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1" name=""/>
                  <p:cNvSpPr/>
                  <p:nvPr/>
                </p:nvSpPr>
                <p:spPr>
                  <a:xfrm>
                    <a:off x="6781680" y="354960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2" name=""/>
                  <p:cNvSpPr/>
                  <p:nvPr/>
                </p:nvSpPr>
                <p:spPr>
                  <a:xfrm>
                    <a:off x="6781680" y="355824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3" name=""/>
                <p:cNvSpPr/>
                <p:nvPr/>
              </p:nvSpPr>
              <p:spPr>
                <a:xfrm>
                  <a:off x="6781680" y="1828800"/>
                  <a:ext cx="1962360" cy="173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24a8"/>
                    </a:gs>
                    <a:gs pos="100000">
                      <a:srgbClr val="00104d"/>
                    </a:gs>
                  </a:gsLst>
                  <a:lin ang="5400000"/>
                </a:gradFill>
                <a:ln cap="rnd" w="63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4" name=""/>
              <p:cNvSpPr/>
              <p:nvPr/>
            </p:nvSpPr>
            <p:spPr>
              <a:xfrm>
                <a:off x="7093080" y="1447920"/>
                <a:ext cx="133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Dual-Core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7772400" y="3581280"/>
                <a:ext cx="0" cy="22392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6858000" y="3809880"/>
                <a:ext cx="1905120" cy="0"/>
              </a:xfrm>
              <a:prstGeom prst="line">
                <a:avLst/>
              </a:prstGeom>
              <a:ln w="792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27" name=""/>
              <p:cNvGrpSpPr/>
              <p:nvPr/>
            </p:nvGrpSpPr>
            <p:grpSpPr>
              <a:xfrm>
                <a:off x="7848720" y="1905120"/>
                <a:ext cx="642600" cy="519480"/>
                <a:chOff x="7848720" y="1905120"/>
                <a:chExt cx="642600" cy="519480"/>
              </a:xfrm>
            </p:grpSpPr>
            <p:sp>
              <p:nvSpPr>
                <p:cNvPr id="1028" name=""/>
                <p:cNvSpPr/>
                <p:nvPr/>
              </p:nvSpPr>
              <p:spPr>
                <a:xfrm>
                  <a:off x="7848720" y="1905120"/>
                  <a:ext cx="642600" cy="264960"/>
                </a:xfrm>
                <a:prstGeom prst="rect">
                  <a:avLst/>
                </a:prstGeom>
                <a:solidFill>
                  <a:srgbClr val="a6cae1"/>
                </a:solidFill>
                <a:ln cap="rnd" w="47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8049240" y="1953720"/>
                  <a:ext cx="20340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 Narrow"/>
                    </a:rPr>
                    <a:t>AS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7848720" y="2167920"/>
                  <a:ext cx="642600" cy="255960"/>
                </a:xfrm>
                <a:prstGeom prst="rect">
                  <a:avLst/>
                </a:prstGeom>
                <a:solidFill>
                  <a:srgbClr val="567eb9"/>
                </a:solidFill>
                <a:ln cap="rnd" w="47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7958880" y="2211120"/>
                  <a:ext cx="4201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 Narrow"/>
                    </a:rPr>
                    <a:t>APIC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2" name=""/>
              <p:cNvSpPr/>
              <p:nvPr/>
            </p:nvSpPr>
            <p:spPr>
              <a:xfrm>
                <a:off x="6934320" y="2514600"/>
                <a:ext cx="749160" cy="914400"/>
              </a:xfrm>
              <a:prstGeom prst="rect">
                <a:avLst/>
              </a:prstGeom>
              <a:gradFill rotWithShape="0">
                <a:gsLst>
                  <a:gs pos="0">
                    <a:srgbClr val="0c2e86"/>
                  </a:gs>
                  <a:gs pos="100000">
                    <a:srgbClr val="05153d"/>
                  </a:gs>
                </a:gsLst>
                <a:lin ang="5400000"/>
              </a:gradFill>
              <a:ln cap="rnd" w="47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 Narrow"/>
                  </a:rPr>
                  <a:t>PE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33" name=""/>
            <p:cNvSpPr/>
            <p:nvPr/>
          </p:nvSpPr>
          <p:spPr>
            <a:xfrm>
              <a:off x="7848720" y="2514600"/>
              <a:ext cx="761760" cy="914400"/>
            </a:xfrm>
            <a:prstGeom prst="rect">
              <a:avLst/>
            </a:prstGeom>
            <a:gradFill rotWithShape="0">
              <a:gsLst>
                <a:gs pos="0">
                  <a:srgbClr val="0c2e86"/>
                </a:gs>
                <a:gs pos="100000">
                  <a:srgbClr val="05153d"/>
                </a:gs>
              </a:gsLst>
              <a:lin ang="5400000"/>
            </a:gradFill>
            <a:ln cap="rnd"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P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34" name=""/>
            <p:cNvGrpSpPr/>
            <p:nvPr/>
          </p:nvGrpSpPr>
          <p:grpSpPr>
            <a:xfrm>
              <a:off x="7010280" y="1905120"/>
              <a:ext cx="642600" cy="519480"/>
              <a:chOff x="7010280" y="1905120"/>
              <a:chExt cx="642600" cy="519480"/>
            </a:xfrm>
          </p:grpSpPr>
          <p:sp>
            <p:nvSpPr>
              <p:cNvPr id="1035" name=""/>
              <p:cNvSpPr/>
              <p:nvPr/>
            </p:nvSpPr>
            <p:spPr>
              <a:xfrm>
                <a:off x="7010280" y="1905120"/>
                <a:ext cx="642600" cy="264960"/>
              </a:xfrm>
              <a:prstGeom prst="rect">
                <a:avLst/>
              </a:prstGeom>
              <a:solidFill>
                <a:srgbClr val="a6cae1"/>
              </a:solidFill>
              <a:ln cap="rnd" w="47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7210800" y="1953720"/>
                <a:ext cx="2034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 Narrow"/>
                  </a:rPr>
                  <a:t>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010280" y="2167920"/>
                <a:ext cx="642600" cy="255960"/>
              </a:xfrm>
              <a:prstGeom prst="rect">
                <a:avLst/>
              </a:prstGeom>
              <a:solidFill>
                <a:srgbClr val="567eb9"/>
              </a:solidFill>
              <a:ln cap="rnd" w="47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7120440" y="2211120"/>
                <a:ext cx="42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 Narrow"/>
                  </a:rPr>
                  <a:t>APIC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39" name=""/>
          <p:cNvSpPr/>
          <p:nvPr/>
        </p:nvSpPr>
        <p:spPr>
          <a:xfrm>
            <a:off x="4572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Power of parallelism - seen in Intel Process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28600" y="4876920"/>
            <a:ext cx="84582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ftware optimized for DP will perform well on HT Technology and Dual-Co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ltithreading is required for maximizing application perform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ngle threaded apps will not run faster but benefit while multitasking (running multiple single threaded app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F1969-1222-44ED-96FB-8F9EB0DA13A9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C355ED-ED15-429D-BD45-216991569EF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1" name=""/>
          <p:cNvGrpSpPr/>
          <p:nvPr/>
        </p:nvGrpSpPr>
        <p:grpSpPr>
          <a:xfrm>
            <a:off x="1454040" y="2008080"/>
            <a:ext cx="592200" cy="2470320"/>
            <a:chOff x="1454040" y="2008080"/>
            <a:chExt cx="592200" cy="2470320"/>
          </a:xfrm>
        </p:grpSpPr>
        <p:sp>
          <p:nvSpPr>
            <p:cNvPr id="1042" name=""/>
            <p:cNvSpPr/>
            <p:nvPr/>
          </p:nvSpPr>
          <p:spPr>
            <a:xfrm>
              <a:off x="1454040" y="2008080"/>
              <a:ext cx="592200" cy="2470320"/>
            </a:xfrm>
            <a:prstGeom prst="rect">
              <a:avLst/>
            </a:prstGeom>
            <a:solidFill>
              <a:srgbClr val="0860a8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ff5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541520" y="2095560"/>
              <a:ext cx="415800" cy="0"/>
            </a:xfrm>
            <a:prstGeom prst="line">
              <a:avLst/>
            </a:prstGeom>
            <a:ln w="25560">
              <a:solidFill>
                <a:srgbClr val="1d0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541520" y="2171880"/>
              <a:ext cx="415800" cy="0"/>
            </a:xfrm>
            <a:prstGeom prst="line">
              <a:avLst/>
            </a:prstGeom>
            <a:ln w="25560">
              <a:solidFill>
                <a:srgbClr val="1d0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541520" y="2247840"/>
              <a:ext cx="415800" cy="0"/>
            </a:xfrm>
            <a:prstGeom prst="line">
              <a:avLst/>
            </a:prstGeom>
            <a:ln w="25560">
              <a:solidFill>
                <a:srgbClr val="1d0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541520" y="2324160"/>
              <a:ext cx="415800" cy="0"/>
            </a:xfrm>
            <a:prstGeom prst="line">
              <a:avLst/>
            </a:prstGeom>
            <a:ln w="25560">
              <a:solidFill>
                <a:srgbClr val="1d0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541520" y="2400480"/>
              <a:ext cx="415800" cy="0"/>
            </a:xfrm>
            <a:prstGeom prst="line">
              <a:avLst/>
            </a:prstGeom>
            <a:ln w="25560">
              <a:solidFill>
                <a:srgbClr val="1d0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1541520" y="2550960"/>
              <a:ext cx="415800" cy="0"/>
            </a:xfrm>
            <a:prstGeom prst="line">
              <a:avLst/>
            </a:prstGeom>
            <a:ln w="25560">
              <a:solidFill>
                <a:srgbClr val="1d0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1541520" y="2627280"/>
              <a:ext cx="415800" cy="0"/>
            </a:xfrm>
            <a:prstGeom prst="line">
              <a:avLst/>
            </a:prstGeom>
            <a:ln w="25560">
              <a:solidFill>
                <a:srgbClr val="1d0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541520" y="2703600"/>
              <a:ext cx="415800" cy="0"/>
            </a:xfrm>
            <a:prstGeom prst="line">
              <a:avLst/>
            </a:prstGeom>
            <a:ln w="25560">
              <a:solidFill>
                <a:srgbClr val="1d0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541520" y="2854440"/>
              <a:ext cx="415800" cy="0"/>
            </a:xfrm>
            <a:prstGeom prst="line">
              <a:avLst/>
            </a:prstGeom>
            <a:ln w="25560">
              <a:solidFill>
                <a:srgbClr val="1d0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541520" y="2930400"/>
              <a:ext cx="415800" cy="0"/>
            </a:xfrm>
            <a:prstGeom prst="line">
              <a:avLst/>
            </a:prstGeom>
            <a:ln w="25560">
              <a:solidFill>
                <a:srgbClr val="1d0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541520" y="3006720"/>
              <a:ext cx="415800" cy="0"/>
            </a:xfrm>
            <a:prstGeom prst="line">
              <a:avLst/>
            </a:prstGeom>
            <a:ln w="25560">
              <a:solidFill>
                <a:srgbClr val="1d0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541520" y="3083040"/>
              <a:ext cx="415800" cy="0"/>
            </a:xfrm>
            <a:prstGeom prst="line">
              <a:avLst/>
            </a:prstGeom>
            <a:ln w="25560">
              <a:solidFill>
                <a:srgbClr val="1d0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541520" y="3157560"/>
              <a:ext cx="415800" cy="0"/>
            </a:xfrm>
            <a:prstGeom prst="line">
              <a:avLst/>
            </a:prstGeom>
            <a:ln w="25560">
              <a:solidFill>
                <a:srgbClr val="1d0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541520" y="3233880"/>
              <a:ext cx="415800" cy="0"/>
            </a:xfrm>
            <a:prstGeom prst="line">
              <a:avLst/>
            </a:prstGeom>
            <a:ln w="25560">
              <a:solidFill>
                <a:srgbClr val="1d0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541520" y="3386160"/>
              <a:ext cx="415800" cy="0"/>
            </a:xfrm>
            <a:prstGeom prst="line">
              <a:avLst/>
            </a:prstGeom>
            <a:ln w="25560">
              <a:solidFill>
                <a:srgbClr val="1d0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541520" y="3462480"/>
              <a:ext cx="415800" cy="0"/>
            </a:xfrm>
            <a:prstGeom prst="line">
              <a:avLst/>
            </a:prstGeom>
            <a:ln w="25560">
              <a:solidFill>
                <a:srgbClr val="1d0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1541520" y="3537000"/>
              <a:ext cx="415800" cy="0"/>
            </a:xfrm>
            <a:prstGeom prst="line">
              <a:avLst/>
            </a:prstGeom>
            <a:ln w="25560">
              <a:solidFill>
                <a:srgbClr val="1d0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541520" y="3613320"/>
              <a:ext cx="415800" cy="0"/>
            </a:xfrm>
            <a:prstGeom prst="line">
              <a:avLst/>
            </a:prstGeom>
            <a:ln w="25560">
              <a:solidFill>
                <a:srgbClr val="1d0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541520" y="3689280"/>
              <a:ext cx="415800" cy="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541520" y="3765600"/>
              <a:ext cx="415800" cy="0"/>
            </a:xfrm>
            <a:prstGeom prst="line">
              <a:avLst/>
            </a:prstGeom>
            <a:ln w="255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541520" y="3916440"/>
              <a:ext cx="415800" cy="0"/>
            </a:xfrm>
            <a:prstGeom prst="line">
              <a:avLst/>
            </a:prstGeom>
            <a:ln w="2556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541520" y="3992400"/>
              <a:ext cx="415800" cy="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541520" y="4068720"/>
              <a:ext cx="415800" cy="0"/>
            </a:xfrm>
            <a:prstGeom prst="line">
              <a:avLst/>
            </a:prstGeom>
            <a:ln w="25560">
              <a:solidFill>
                <a:srgbClr val="567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541520" y="4143240"/>
              <a:ext cx="415800" cy="0"/>
            </a:xfrm>
            <a:prstGeom prst="line">
              <a:avLst/>
            </a:prstGeom>
            <a:ln w="25560">
              <a:solidFill>
                <a:srgbClr val="aa01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541520" y="4297320"/>
              <a:ext cx="415800" cy="0"/>
            </a:xfrm>
            <a:prstGeom prst="line">
              <a:avLst/>
            </a:prstGeom>
            <a:ln w="25560">
              <a:solidFill>
                <a:srgbClr val="a6ca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541520" y="4373640"/>
              <a:ext cx="415800" cy="0"/>
            </a:xfrm>
            <a:prstGeom prst="line">
              <a:avLst/>
            </a:prstGeom>
            <a:ln w="25560">
              <a:solidFill>
                <a:srgbClr val="f5e6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9" name=""/>
          <p:cNvSpPr/>
          <p:nvPr/>
        </p:nvSpPr>
        <p:spPr>
          <a:xfrm>
            <a:off x="498960" y="1558800"/>
            <a:ext cx="25455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quential mach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353880" y="4768920"/>
            <a:ext cx="2849760" cy="12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structions are </a:t>
            </a:r>
            <a:r>
              <a:rPr b="1" lang="en-US" sz="1600" spc="-1" strike="noStrike">
                <a:solidFill>
                  <a:srgbClr val="f5e647"/>
                </a:solidFill>
                <a:latin typeface="Arial"/>
              </a:rPr>
              <a:t>sequential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, most instructions </a:t>
            </a:r>
            <a:r>
              <a:rPr b="1" lang="en-US" sz="1600" spc="-1" strike="noStrike">
                <a:solidFill>
                  <a:srgbClr val="f5e647"/>
                </a:solidFill>
                <a:latin typeface="Arial"/>
              </a:rPr>
              <a:t>depend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on completion of the previous instru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7010280" y="2695680"/>
            <a:ext cx="1333800" cy="9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ecution Pipe (Engin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2" name=""/>
          <p:cNvGrpSpPr/>
          <p:nvPr/>
        </p:nvGrpSpPr>
        <p:grpSpPr>
          <a:xfrm>
            <a:off x="3854520" y="2546280"/>
            <a:ext cx="3141720" cy="1020960"/>
            <a:chOff x="3854520" y="2546280"/>
            <a:chExt cx="3141720" cy="1020960"/>
          </a:xfrm>
        </p:grpSpPr>
        <p:grpSp>
          <p:nvGrpSpPr>
            <p:cNvPr id="1073" name=""/>
            <p:cNvGrpSpPr/>
            <p:nvPr/>
          </p:nvGrpSpPr>
          <p:grpSpPr>
            <a:xfrm>
              <a:off x="3854520" y="2546280"/>
              <a:ext cx="3141720" cy="412920"/>
              <a:chOff x="3854520" y="2546280"/>
              <a:chExt cx="3141720" cy="412920"/>
            </a:xfrm>
          </p:grpSpPr>
          <p:sp>
            <p:nvSpPr>
              <p:cNvPr id="1074" name=""/>
              <p:cNvSpPr/>
              <p:nvPr/>
            </p:nvSpPr>
            <p:spPr>
              <a:xfrm>
                <a:off x="3854520" y="2546280"/>
                <a:ext cx="3141720" cy="409680"/>
              </a:xfrm>
              <a:custGeom>
                <a:avLst/>
                <a:gdLst>
                  <a:gd name="textAreaLeft" fmla="*/ 690840 w 3141720"/>
                  <a:gd name="textAreaRight" fmla="*/ 2450880 w 3141720"/>
                  <a:gd name="textAreaTop" fmla="*/ 90000 h 409680"/>
                  <a:gd name="textAreaBottom" fmla="*/ 319680 h 409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33"/>
                  </a:gs>
                  <a:gs pos="100000">
                    <a:srgbClr val="38001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4346640" y="2753640"/>
                <a:ext cx="2186280" cy="205560"/>
              </a:xfrm>
              <a:prstGeom prst="ellipse">
                <a:avLst/>
              </a:prstGeom>
              <a:gradFill rotWithShape="0">
                <a:gsLst>
                  <a:gs pos="0">
                    <a:srgbClr val="660033"/>
                  </a:gs>
                  <a:gs pos="100000">
                    <a:srgbClr val="38001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76" name=""/>
            <p:cNvGrpSpPr/>
            <p:nvPr/>
          </p:nvGrpSpPr>
          <p:grpSpPr>
            <a:xfrm>
              <a:off x="4638600" y="2647800"/>
              <a:ext cx="370080" cy="919440"/>
              <a:chOff x="4638600" y="2647800"/>
              <a:chExt cx="370080" cy="919440"/>
            </a:xfrm>
          </p:grpSpPr>
          <p:sp>
            <p:nvSpPr>
              <p:cNvPr id="1077" name=""/>
              <p:cNvSpPr/>
              <p:nvPr/>
            </p:nvSpPr>
            <p:spPr>
              <a:xfrm>
                <a:off x="4638600" y="3341520"/>
                <a:ext cx="370080" cy="114480"/>
              </a:xfrm>
              <a:prstGeom prst="rect">
                <a:avLst/>
              </a:prstGeom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4638600" y="3452760"/>
                <a:ext cx="370080" cy="114480"/>
              </a:xfrm>
              <a:prstGeom prst="rect">
                <a:avLst/>
              </a:prstGeom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4638600" y="2647800"/>
                <a:ext cx="370080" cy="114480"/>
              </a:xfrm>
              <a:prstGeom prst="rect">
                <a:avLst/>
              </a:prstGeom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4638600" y="2759040"/>
                <a:ext cx="370080" cy="114480"/>
              </a:xfrm>
              <a:prstGeom prst="rect">
                <a:avLst/>
              </a:prstGeom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4638600" y="2874960"/>
                <a:ext cx="370080" cy="114480"/>
              </a:xfrm>
              <a:prstGeom prst="rect">
                <a:avLst/>
              </a:prstGeom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4638600" y="2986200"/>
                <a:ext cx="370080" cy="114120"/>
              </a:xfrm>
              <a:prstGeom prst="rect">
                <a:avLst/>
              </a:prstGeom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4638600" y="3108240"/>
                <a:ext cx="370080" cy="112680"/>
              </a:xfrm>
              <a:prstGeom prst="rect">
                <a:avLst/>
              </a:prstGeom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4638600" y="3228840"/>
                <a:ext cx="370080" cy="112680"/>
              </a:xfrm>
              <a:prstGeom prst="rect">
                <a:avLst/>
              </a:prstGeom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85" name=""/>
            <p:cNvGrpSpPr/>
            <p:nvPr/>
          </p:nvGrpSpPr>
          <p:grpSpPr>
            <a:xfrm>
              <a:off x="5054760" y="2646360"/>
              <a:ext cx="369720" cy="919080"/>
              <a:chOff x="5054760" y="2646360"/>
              <a:chExt cx="369720" cy="919080"/>
            </a:xfrm>
          </p:grpSpPr>
          <p:sp>
            <p:nvSpPr>
              <p:cNvPr id="1086" name=""/>
              <p:cNvSpPr/>
              <p:nvPr/>
            </p:nvSpPr>
            <p:spPr>
              <a:xfrm>
                <a:off x="5054760" y="3340080"/>
                <a:ext cx="369720" cy="114480"/>
              </a:xfrm>
              <a:prstGeom prst="rect">
                <a:avLst/>
              </a:prstGeom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5054760" y="3451320"/>
                <a:ext cx="369720" cy="114120"/>
              </a:xfrm>
              <a:prstGeom prst="rect">
                <a:avLst/>
              </a:prstGeom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054760" y="2646360"/>
                <a:ext cx="369720" cy="114480"/>
              </a:xfrm>
              <a:prstGeom prst="rect">
                <a:avLst/>
              </a:prstGeom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5054760" y="2757600"/>
                <a:ext cx="369720" cy="114120"/>
              </a:xfrm>
              <a:prstGeom prst="rect">
                <a:avLst/>
              </a:prstGeom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5054760" y="2873520"/>
                <a:ext cx="369720" cy="114120"/>
              </a:xfrm>
              <a:prstGeom prst="rect">
                <a:avLst/>
              </a:prstGeom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5054760" y="2984400"/>
                <a:ext cx="369720" cy="114480"/>
              </a:xfrm>
              <a:prstGeom prst="rect">
                <a:avLst/>
              </a:prstGeom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5054760" y="3106800"/>
                <a:ext cx="369720" cy="112680"/>
              </a:xfrm>
              <a:prstGeom prst="rect">
                <a:avLst/>
              </a:prstGeom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5054760" y="3227400"/>
                <a:ext cx="369720" cy="112680"/>
              </a:xfrm>
              <a:prstGeom prst="rect">
                <a:avLst/>
              </a:prstGeom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94" name=""/>
            <p:cNvGrpSpPr/>
            <p:nvPr/>
          </p:nvGrpSpPr>
          <p:grpSpPr>
            <a:xfrm>
              <a:off x="5470560" y="2644920"/>
              <a:ext cx="369720" cy="919080"/>
              <a:chOff x="5470560" y="2644920"/>
              <a:chExt cx="369720" cy="919080"/>
            </a:xfrm>
          </p:grpSpPr>
          <p:sp>
            <p:nvSpPr>
              <p:cNvPr id="1095" name=""/>
              <p:cNvSpPr/>
              <p:nvPr/>
            </p:nvSpPr>
            <p:spPr>
              <a:xfrm>
                <a:off x="5470560" y="3338640"/>
                <a:ext cx="369720" cy="114120"/>
              </a:xfrm>
              <a:prstGeom prst="rect">
                <a:avLst/>
              </a:prstGeom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470560" y="3449520"/>
                <a:ext cx="369720" cy="114480"/>
              </a:xfrm>
              <a:prstGeom prst="rect">
                <a:avLst/>
              </a:prstGeom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5470560" y="2644920"/>
                <a:ext cx="369720" cy="114120"/>
              </a:xfrm>
              <a:prstGeom prst="rect">
                <a:avLst/>
              </a:prstGeom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5470560" y="2755800"/>
                <a:ext cx="369720" cy="114480"/>
              </a:xfrm>
              <a:prstGeom prst="rect">
                <a:avLst/>
              </a:prstGeom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5470560" y="2871720"/>
                <a:ext cx="369720" cy="114480"/>
              </a:xfrm>
              <a:prstGeom prst="rect">
                <a:avLst/>
              </a:prstGeom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5470560" y="2982960"/>
                <a:ext cx="369720" cy="114120"/>
              </a:xfrm>
              <a:prstGeom prst="rect">
                <a:avLst/>
              </a:prstGeom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470560" y="3105000"/>
                <a:ext cx="369720" cy="113040"/>
              </a:xfrm>
              <a:prstGeom prst="rect">
                <a:avLst/>
              </a:prstGeom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470560" y="3225960"/>
                <a:ext cx="369720" cy="112680"/>
              </a:xfrm>
              <a:prstGeom prst="rect">
                <a:avLst/>
              </a:prstGeom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03" name=""/>
            <p:cNvGrpSpPr/>
            <p:nvPr/>
          </p:nvGrpSpPr>
          <p:grpSpPr>
            <a:xfrm>
              <a:off x="5886360" y="2643120"/>
              <a:ext cx="370080" cy="919080"/>
              <a:chOff x="5886360" y="2643120"/>
              <a:chExt cx="370080" cy="919080"/>
            </a:xfrm>
          </p:grpSpPr>
          <p:sp>
            <p:nvSpPr>
              <p:cNvPr id="1104" name=""/>
              <p:cNvSpPr/>
              <p:nvPr/>
            </p:nvSpPr>
            <p:spPr>
              <a:xfrm>
                <a:off x="5886360" y="3336840"/>
                <a:ext cx="370080" cy="114480"/>
              </a:xfrm>
              <a:prstGeom prst="rect">
                <a:avLst/>
              </a:prstGeom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886360" y="3448080"/>
                <a:ext cx="370080" cy="114120"/>
              </a:xfrm>
              <a:prstGeom prst="rect">
                <a:avLst/>
              </a:prstGeom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886360" y="2643120"/>
                <a:ext cx="370080" cy="114480"/>
              </a:xfrm>
              <a:prstGeom prst="rect">
                <a:avLst/>
              </a:prstGeom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886360" y="2754360"/>
                <a:ext cx="370080" cy="114120"/>
              </a:xfrm>
              <a:prstGeom prst="rect">
                <a:avLst/>
              </a:prstGeom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886360" y="2870280"/>
                <a:ext cx="370080" cy="114120"/>
              </a:xfrm>
              <a:prstGeom prst="rect">
                <a:avLst/>
              </a:prstGeom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886360" y="2981160"/>
                <a:ext cx="370080" cy="114480"/>
              </a:xfrm>
              <a:prstGeom prst="rect">
                <a:avLst/>
              </a:prstGeom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886360" y="3103560"/>
                <a:ext cx="370080" cy="112680"/>
              </a:xfrm>
              <a:prstGeom prst="rect">
                <a:avLst/>
              </a:prstGeom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886360" y="3224160"/>
                <a:ext cx="370080" cy="112680"/>
              </a:xfrm>
              <a:prstGeom prst="rect">
                <a:avLst/>
              </a:prstGeom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112" name=""/>
          <p:cNvGrpSpPr/>
          <p:nvPr/>
        </p:nvGrpSpPr>
        <p:grpSpPr>
          <a:xfrm>
            <a:off x="471600" y="4168440"/>
            <a:ext cx="976320" cy="397440"/>
            <a:chOff x="471600" y="4168440"/>
            <a:chExt cx="976320" cy="397440"/>
          </a:xfrm>
        </p:grpSpPr>
        <p:sp>
          <p:nvSpPr>
            <p:cNvPr id="1113" name=""/>
            <p:cNvSpPr/>
            <p:nvPr/>
          </p:nvSpPr>
          <p:spPr>
            <a:xfrm>
              <a:off x="471600" y="4168440"/>
              <a:ext cx="736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irs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089000" y="4371840"/>
              <a:ext cx="358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5" name=""/>
          <p:cNvGrpSpPr/>
          <p:nvPr/>
        </p:nvGrpSpPr>
        <p:grpSpPr>
          <a:xfrm>
            <a:off x="480960" y="3863880"/>
            <a:ext cx="1003320" cy="397440"/>
            <a:chOff x="480960" y="3863880"/>
            <a:chExt cx="1003320" cy="397440"/>
          </a:xfrm>
        </p:grpSpPr>
        <p:sp>
          <p:nvSpPr>
            <p:cNvPr id="1116" name=""/>
            <p:cNvSpPr/>
            <p:nvPr/>
          </p:nvSpPr>
          <p:spPr>
            <a:xfrm>
              <a:off x="480960" y="3863880"/>
              <a:ext cx="73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ex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074600" y="4100400"/>
              <a:ext cx="409680" cy="136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8" name=""/>
          <p:cNvGrpSpPr/>
          <p:nvPr/>
        </p:nvGrpSpPr>
        <p:grpSpPr>
          <a:xfrm>
            <a:off x="2038320" y="1262160"/>
            <a:ext cx="2166840" cy="3286080"/>
            <a:chOff x="2038320" y="1262160"/>
            <a:chExt cx="2166840" cy="3286080"/>
          </a:xfrm>
        </p:grpSpPr>
        <p:grpSp>
          <p:nvGrpSpPr>
            <p:cNvPr id="1119" name=""/>
            <p:cNvGrpSpPr/>
            <p:nvPr/>
          </p:nvGrpSpPr>
          <p:grpSpPr>
            <a:xfrm>
              <a:off x="3789360" y="1371600"/>
              <a:ext cx="415800" cy="761400"/>
              <a:chOff x="3789360" y="1371600"/>
              <a:chExt cx="415800" cy="761400"/>
            </a:xfrm>
          </p:grpSpPr>
          <p:sp>
            <p:nvSpPr>
              <p:cNvPr id="1120" name=""/>
              <p:cNvSpPr/>
              <p:nvPr/>
            </p:nvSpPr>
            <p:spPr>
              <a:xfrm>
                <a:off x="3789360" y="1371600"/>
                <a:ext cx="415800" cy="0"/>
              </a:xfrm>
              <a:prstGeom prst="line">
                <a:avLst/>
              </a:prstGeom>
              <a:ln w="76320">
                <a:solidFill>
                  <a:srgbClr val="567e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3789360" y="1557720"/>
                <a:ext cx="415800" cy="0"/>
              </a:xfrm>
              <a:prstGeom prst="line">
                <a:avLst/>
              </a:prstGeom>
              <a:ln w="76320">
                <a:solidFill>
                  <a:srgbClr val="aa01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3789360" y="1942560"/>
                <a:ext cx="415800" cy="0"/>
              </a:xfrm>
              <a:prstGeom prst="line">
                <a:avLst/>
              </a:prstGeom>
              <a:ln w="76320">
                <a:solidFill>
                  <a:srgbClr val="a6ca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3789360" y="2133000"/>
                <a:ext cx="415800" cy="0"/>
              </a:xfrm>
              <a:prstGeom prst="line">
                <a:avLst/>
              </a:prstGeom>
              <a:ln w="76320">
                <a:solidFill>
                  <a:srgbClr val="f5e6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24" name=""/>
            <p:cNvSpPr/>
            <p:nvPr/>
          </p:nvSpPr>
          <p:spPr>
            <a:xfrm>
              <a:off x="2257560" y="1714680"/>
              <a:ext cx="1409400" cy="2833560"/>
            </a:xfrm>
            <a:custGeom>
              <a:avLst/>
              <a:gdLst/>
              <a:ahLst/>
              <a:rect l="l" t="t" r="r" b="b"/>
              <a:pathLst>
                <a:path w="888" h="1785">
                  <a:moveTo>
                    <a:pt x="0" y="1590"/>
                  </a:moveTo>
                  <a:cubicBezTo>
                    <a:pt x="253" y="1687"/>
                    <a:pt x="506" y="1785"/>
                    <a:pt x="558" y="1572"/>
                  </a:cubicBezTo>
                  <a:cubicBezTo>
                    <a:pt x="610" y="1359"/>
                    <a:pt x="257" y="574"/>
                    <a:pt x="312" y="312"/>
                  </a:cubicBezTo>
                  <a:cubicBezTo>
                    <a:pt x="367" y="50"/>
                    <a:pt x="627" y="25"/>
                    <a:pt x="888" y="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2038320" y="4024440"/>
              <a:ext cx="219240" cy="428400"/>
            </a:xfrm>
            <a:custGeom>
              <a:avLst/>
              <a:gdLst>
                <a:gd name="textAreaLeft" fmla="*/ 0 w 219240"/>
                <a:gd name="textAreaRight" fmla="*/ 79200 w 219240"/>
                <a:gd name="textAreaTop" fmla="*/ 11160 h 428400"/>
                <a:gd name="textAreaBottom" fmla="*/ 41724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 flipH="1">
              <a:off x="3596400" y="1262160"/>
              <a:ext cx="219240" cy="971280"/>
            </a:xfrm>
            <a:custGeom>
              <a:avLst/>
              <a:gdLst>
                <a:gd name="textAreaLeft" fmla="*/ -360 w 219240"/>
                <a:gd name="textAreaRight" fmla="*/ 78840 w 219240"/>
                <a:gd name="textAreaTop" fmla="*/ 25200 h 971280"/>
                <a:gd name="textAreaBottom" fmla="*/ 946080 h 97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7" name=""/>
          <p:cNvGrpSpPr/>
          <p:nvPr/>
        </p:nvGrpSpPr>
        <p:grpSpPr>
          <a:xfrm>
            <a:off x="4632480" y="2133720"/>
            <a:ext cx="1654200" cy="0"/>
            <a:chOff x="4632480" y="2133720"/>
            <a:chExt cx="1654200" cy="0"/>
          </a:xfrm>
        </p:grpSpPr>
        <p:sp>
          <p:nvSpPr>
            <p:cNvPr id="1128" name=""/>
            <p:cNvSpPr/>
            <p:nvPr/>
          </p:nvSpPr>
          <p:spPr>
            <a:xfrm>
              <a:off x="5870520" y="2133720"/>
              <a:ext cx="416160" cy="0"/>
            </a:xfrm>
            <a:prstGeom prst="line">
              <a:avLst/>
            </a:prstGeom>
            <a:ln w="76320">
              <a:solidFill>
                <a:srgbClr val="567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460840" y="2133720"/>
              <a:ext cx="416160" cy="0"/>
            </a:xfrm>
            <a:prstGeom prst="line">
              <a:avLst/>
            </a:prstGeom>
            <a:ln w="76320">
              <a:solidFill>
                <a:srgbClr val="aa01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046840" y="2133720"/>
              <a:ext cx="415800" cy="0"/>
            </a:xfrm>
            <a:prstGeom prst="line">
              <a:avLst/>
            </a:prstGeom>
            <a:ln w="76320">
              <a:solidFill>
                <a:srgbClr val="a6ca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632480" y="2133720"/>
              <a:ext cx="415800" cy="0"/>
            </a:xfrm>
            <a:prstGeom prst="line">
              <a:avLst/>
            </a:prstGeom>
            <a:ln w="76320">
              <a:solidFill>
                <a:srgbClr val="f5e6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32" name=""/>
          <p:cNvGrpSpPr/>
          <p:nvPr/>
        </p:nvGrpSpPr>
        <p:grpSpPr>
          <a:xfrm>
            <a:off x="4640400" y="2643120"/>
            <a:ext cx="1617480" cy="119160"/>
            <a:chOff x="4640400" y="2643120"/>
            <a:chExt cx="1617480" cy="119160"/>
          </a:xfrm>
        </p:grpSpPr>
        <p:sp>
          <p:nvSpPr>
            <p:cNvPr id="1133" name=""/>
            <p:cNvSpPr/>
            <p:nvPr/>
          </p:nvSpPr>
          <p:spPr>
            <a:xfrm>
              <a:off x="4640400" y="2647800"/>
              <a:ext cx="369720" cy="114480"/>
            </a:xfrm>
            <a:prstGeom prst="rect">
              <a:avLst/>
            </a:prstGeom>
            <a:gradFill rotWithShape="0">
              <a:gsLst>
                <a:gs pos="0">
                  <a:srgbClr val="706a20"/>
                </a:gs>
                <a:gs pos="50000">
                  <a:srgbClr val="f5e647"/>
                </a:gs>
                <a:gs pos="100000">
                  <a:srgbClr val="706a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056200" y="2646360"/>
              <a:ext cx="369720" cy="114480"/>
            </a:xfrm>
            <a:prstGeom prst="rect">
              <a:avLst/>
            </a:prstGeom>
            <a:gradFill rotWithShape="0">
              <a:gsLst>
                <a:gs pos="0">
                  <a:srgbClr val="4c5d67"/>
                </a:gs>
                <a:gs pos="50000">
                  <a:srgbClr val="a6cae1"/>
                </a:gs>
                <a:gs pos="100000">
                  <a:srgbClr val="4c5d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472000" y="2644920"/>
              <a:ext cx="370080" cy="114120"/>
            </a:xfrm>
            <a:prstGeom prst="rect">
              <a:avLst/>
            </a:prstGeom>
            <a:gradFill rotWithShape="0">
              <a:gsLst>
                <a:gs pos="0">
                  <a:srgbClr val="4e0023"/>
                </a:gs>
                <a:gs pos="50000">
                  <a:srgbClr val="aa014c"/>
                </a:gs>
                <a:gs pos="100000">
                  <a:srgbClr val="4e00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888160" y="2643120"/>
              <a:ext cx="369720" cy="114480"/>
            </a:xfrm>
            <a:prstGeom prst="rect">
              <a:avLst/>
            </a:prstGeom>
            <a:gradFill rotWithShape="0">
              <a:gsLst>
                <a:gs pos="0">
                  <a:srgbClr val="273a55"/>
                </a:gs>
                <a:gs pos="50000">
                  <a:srgbClr val="567eb9"/>
                </a:gs>
                <a:gs pos="100000">
                  <a:srgbClr val="273a5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37" name=""/>
          <p:cNvGrpSpPr/>
          <p:nvPr/>
        </p:nvGrpSpPr>
        <p:grpSpPr>
          <a:xfrm>
            <a:off x="4435920" y="1266840"/>
            <a:ext cx="1468440" cy="761760"/>
            <a:chOff x="4435920" y="1266840"/>
            <a:chExt cx="1468440" cy="761760"/>
          </a:xfrm>
        </p:grpSpPr>
        <p:sp>
          <p:nvSpPr>
            <p:cNvPr id="1138" name=""/>
            <p:cNvSpPr/>
            <p:nvPr/>
          </p:nvSpPr>
          <p:spPr>
            <a:xfrm flipV="1">
              <a:off x="5535360" y="1266840"/>
              <a:ext cx="369000" cy="191520"/>
            </a:xfrm>
            <a:prstGeom prst="line">
              <a:avLst/>
            </a:prstGeom>
            <a:ln w="76320">
              <a:solidFill>
                <a:srgbClr val="567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V="1">
              <a:off x="5171760" y="1455480"/>
              <a:ext cx="369000" cy="191520"/>
            </a:xfrm>
            <a:prstGeom prst="line">
              <a:avLst/>
            </a:prstGeom>
            <a:ln w="76320">
              <a:solidFill>
                <a:srgbClr val="aa01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V="1">
              <a:off x="4803840" y="1646280"/>
              <a:ext cx="369000" cy="191520"/>
            </a:xfrm>
            <a:prstGeom prst="line">
              <a:avLst/>
            </a:prstGeom>
            <a:ln w="76320">
              <a:solidFill>
                <a:srgbClr val="a6ca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V="1">
              <a:off x="4435920" y="1837080"/>
              <a:ext cx="369000" cy="191520"/>
            </a:xfrm>
            <a:prstGeom prst="line">
              <a:avLst/>
            </a:prstGeom>
            <a:ln w="76320">
              <a:solidFill>
                <a:srgbClr val="f5e6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42" name=""/>
          <p:cNvSpPr/>
          <p:nvPr/>
        </p:nvSpPr>
        <p:spPr>
          <a:xfrm rot="5400000">
            <a:off x="4543200" y="1380600"/>
            <a:ext cx="819000" cy="1257480"/>
          </a:xfrm>
          <a:custGeom>
            <a:avLst/>
            <a:gdLst>
              <a:gd name="textAreaLeft" fmla="*/ 0 w 819000"/>
              <a:gd name="textAreaRight" fmla="*/ 819360 w 819000"/>
              <a:gd name="textAreaTop" fmla="*/ 0 h 1257480"/>
              <a:gd name="textAreaBottom" fmla="*/ 1257840 h 1257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75752f"/>
              </a:gs>
              <a:gs pos="50000">
                <a:srgbClr val="ffff66"/>
              </a:gs>
              <a:gs pos="100000">
                <a:srgbClr val="7575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3727440" y="3790800"/>
            <a:ext cx="42480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quential events loaded into the execution pipe cannot be executed in parallel due to </a:t>
            </a:r>
            <a:r>
              <a:rPr b="1" lang="en-US" sz="1600" spc="-1" strike="noStrike">
                <a:solidFill>
                  <a:srgbClr val="f5e647"/>
                </a:solidFill>
                <a:latin typeface="Arial"/>
              </a:rPr>
              <a:t>dependenc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3727440" y="4791240"/>
            <a:ext cx="466740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un time</a:t>
            </a:r>
            <a:r>
              <a:rPr b="1" lang="en-US" sz="1600" spc="-1" strike="noStrike">
                <a:solidFill>
                  <a:srgbClr val="f5e647"/>
                </a:solidFill>
                <a:latin typeface="Arial"/>
              </a:rPr>
              <a:t> reordering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can overcome the dependencies by changing the execution sequence and enable more parallelis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5" name=""/>
          <p:cNvGrpSpPr/>
          <p:nvPr/>
        </p:nvGrpSpPr>
        <p:grpSpPr>
          <a:xfrm>
            <a:off x="4638600" y="2633760"/>
            <a:ext cx="1619280" cy="720720"/>
            <a:chOff x="4638600" y="2633760"/>
            <a:chExt cx="1619280" cy="720720"/>
          </a:xfrm>
        </p:grpSpPr>
        <p:grpSp>
          <p:nvGrpSpPr>
            <p:cNvPr id="1146" name=""/>
            <p:cNvGrpSpPr/>
            <p:nvPr/>
          </p:nvGrpSpPr>
          <p:grpSpPr>
            <a:xfrm>
              <a:off x="4640400" y="2633760"/>
              <a:ext cx="1617480" cy="118440"/>
              <a:chOff x="4640400" y="2633760"/>
              <a:chExt cx="1617480" cy="118440"/>
            </a:xfrm>
          </p:grpSpPr>
          <p:sp>
            <p:nvSpPr>
              <p:cNvPr id="1147" name=""/>
              <p:cNvSpPr/>
              <p:nvPr/>
            </p:nvSpPr>
            <p:spPr>
              <a:xfrm>
                <a:off x="4640400" y="2638080"/>
                <a:ext cx="369720" cy="114120"/>
              </a:xfrm>
              <a:prstGeom prst="rect">
                <a:avLst/>
              </a:prstGeom>
              <a:gradFill rotWithShape="0">
                <a:gsLst>
                  <a:gs pos="0">
                    <a:srgbClr val="008e8e"/>
                  </a:gs>
                  <a:gs pos="50000">
                    <a:srgbClr val="00ffff"/>
                  </a:gs>
                  <a:gs pos="100000">
                    <a:srgbClr val="008e8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5056200" y="2636640"/>
                <a:ext cx="369720" cy="114120"/>
              </a:xfrm>
              <a:prstGeom prst="rect">
                <a:avLst/>
              </a:prstGeom>
              <a:gradFill rotWithShape="0">
                <a:gsLst>
                  <a:gs pos="0">
                    <a:srgbClr val="008e8e"/>
                  </a:gs>
                  <a:gs pos="50000">
                    <a:srgbClr val="00ffff"/>
                  </a:gs>
                  <a:gs pos="100000">
                    <a:srgbClr val="008e8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5472000" y="2635200"/>
                <a:ext cx="370080" cy="113760"/>
              </a:xfrm>
              <a:prstGeom prst="rect">
                <a:avLst/>
              </a:prstGeom>
              <a:gradFill rotWithShape="0">
                <a:gsLst>
                  <a:gs pos="0">
                    <a:srgbClr val="008e8e"/>
                  </a:gs>
                  <a:gs pos="50000">
                    <a:srgbClr val="00ffff"/>
                  </a:gs>
                  <a:gs pos="100000">
                    <a:srgbClr val="008e8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5888160" y="2633760"/>
                <a:ext cx="369720" cy="114120"/>
              </a:xfrm>
              <a:prstGeom prst="rect">
                <a:avLst/>
              </a:prstGeom>
              <a:gradFill rotWithShape="0">
                <a:gsLst>
                  <a:gs pos="0">
                    <a:srgbClr val="008e8e"/>
                  </a:gs>
                  <a:gs pos="50000">
                    <a:srgbClr val="00ffff"/>
                  </a:gs>
                  <a:gs pos="100000">
                    <a:srgbClr val="008e8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51" name=""/>
            <p:cNvSpPr/>
            <p:nvPr/>
          </p:nvSpPr>
          <p:spPr>
            <a:xfrm>
              <a:off x="4638600" y="3233880"/>
              <a:ext cx="370080" cy="114120"/>
            </a:xfrm>
            <a:prstGeom prst="rect">
              <a:avLst/>
            </a:prstGeom>
            <a:gradFill rotWithShape="0">
              <a:gsLst>
                <a:gs pos="0">
                  <a:srgbClr val="706a20"/>
                </a:gs>
                <a:gs pos="50000">
                  <a:srgbClr val="f5e647"/>
                </a:gs>
                <a:gs pos="100000">
                  <a:srgbClr val="706a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056200" y="3098880"/>
              <a:ext cx="369720" cy="114120"/>
            </a:xfrm>
            <a:prstGeom prst="rect">
              <a:avLst/>
            </a:prstGeom>
            <a:gradFill rotWithShape="0">
              <a:gsLst>
                <a:gs pos="0">
                  <a:srgbClr val="4c5d67"/>
                </a:gs>
                <a:gs pos="50000">
                  <a:srgbClr val="a6cae1"/>
                </a:gs>
                <a:gs pos="100000">
                  <a:srgbClr val="4c5d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472000" y="3240000"/>
              <a:ext cx="370080" cy="114480"/>
            </a:xfrm>
            <a:prstGeom prst="rect">
              <a:avLst/>
            </a:prstGeom>
            <a:gradFill rotWithShape="0">
              <a:gsLst>
                <a:gs pos="0">
                  <a:srgbClr val="4e0023"/>
                </a:gs>
                <a:gs pos="50000">
                  <a:srgbClr val="aa014c"/>
                </a:gs>
                <a:gs pos="100000">
                  <a:srgbClr val="4e00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888160" y="2990880"/>
              <a:ext cx="369720" cy="114120"/>
            </a:xfrm>
            <a:prstGeom prst="rect">
              <a:avLst/>
            </a:prstGeom>
            <a:gradFill rotWithShape="0">
              <a:gsLst>
                <a:gs pos="0">
                  <a:srgbClr val="273a55"/>
                </a:gs>
                <a:gs pos="50000">
                  <a:srgbClr val="567eb9"/>
                </a:gs>
                <a:gs pos="100000">
                  <a:srgbClr val="273a5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87080" y="85320"/>
            <a:ext cx="84740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Parallelism: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chine code executio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[Out-of-order execution engine in Duo Core]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77D72-06FB-498D-8C76-00201DAF77D5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93A110-1E9E-4B90-AF9E-76EA84EC72B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5" dur="1" fill="hold">
                                    <p:stCondLst>
                                      <p:cond evt="end">
                                        <p:tn val="62"/>
                                      </p:cond>
                                    </p:stCondLst>
                                  </p:cTn>
                                  <p:tgtEl>
                                    <p:spTgt spid="1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0" dur="1" fill="hold">
                                    <p:stCondLst>
                                      <p:cond evt="end">
                                        <p:tn val="67"/>
                                      </p:cond>
                                    </p:stCondLst>
                                  </p:cTn>
                                  <p:tgtEl>
                                    <p:spTgt spid="11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evt="end">
                                        <p:tn val="72"/>
                                      </p:cond>
                                    </p:stCondLst>
                                  </p:cTn>
                                  <p:tgtEl>
                                    <p:spTgt spid="1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ptimization Techniqu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67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ulti-core processor implementation (inherent parallelism) has significant impact on software applic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ull potential harnessed by programs that migrate to a threaded software mod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fficient use of threads (kernel or system / user threads) is KEY to dramatically increase effective system performa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18547-170F-4542-9C53-D94D3CFE87B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83CF42-13FF-4F9F-97B0-A6AD05460CE4}" type="datetime1">
              <a:rPr lang="en-US"/>
              <a:t>07/30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readed Software Mode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xplicit Thread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read Librari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3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OSIX* threa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3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in32* API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ssage Passing Interface (MPI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mpiler Directed Thread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penMP* (portable shared memory parallelism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uto-paralleliz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3D8E5-E9BB-4B12-ADBC-D2D00C5B18C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F17796-7EF6-4E3A-ABC8-D2571D0BF741}" type="datetime1">
              <a:rPr lang="en-US"/>
              <a:t>07/30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OSIX* thread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OSIX.1c standar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858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 Language Interfa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858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reads exist within the same proces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858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l threads are pe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 explicit parent-child mod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ception: main(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5CDBE-2757-405E-B574-86F4A9E1D11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71EA88-43C9-4880-B334-DAF7D780E036}" type="datetime1">
              <a:rPr lang="en-US"/>
              <a:t>07/30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gend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456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lvl="1" marL="671760" indent="-22392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core processors – Overview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71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71760" indent="-22392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allelism – impact on multi-core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71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71760" indent="-22392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timization techniqu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71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71760" indent="-22392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S Support / SW tool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71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71760" indent="-22392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F3430-30BC-416E-832A-21ED3AA5A6B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9FE1B4-F82E-4FA8-B50F-092A6AC81752}" type="datetime1">
              <a:rPr lang="en-US"/>
              <a:t>07/30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228600" y="301680"/>
            <a:ext cx="775800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Verdana"/>
              </a:rPr>
              <a:t>Creating POSIX* Threads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163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2743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7432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432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432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4320" indent="-274320">
              <a:lnSpc>
                <a:spcPct val="90000"/>
              </a:lnSpc>
              <a:spcBef>
                <a:spcPts val="21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unction(s) are explicitly mapped to created threa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4320" indent="-27432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read handle – holds all related data on created thread.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4" name=""/>
          <p:cNvSpPr/>
          <p:nvPr/>
        </p:nvSpPr>
        <p:spPr>
          <a:xfrm>
            <a:off x="762120" y="327672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533520" y="1371600"/>
            <a:ext cx="7086600" cy="248040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t pthread_create 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thread_t* handle,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st pthread_attr_t* attribute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oid *(*function) (void *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oid* arg 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37E1A-62B2-4C6C-8551-671DC17E7D0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DDF0BA-1799-4576-AD2C-AEDCFB0CACC4}" type="datetime1">
              <a:rPr lang="en-US"/>
              <a:t>07/30/26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POSIX* threads – exampl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8" name=""/>
          <p:cNvSpPr/>
          <p:nvPr/>
        </p:nvSpPr>
        <p:spPr>
          <a:xfrm>
            <a:off x="380880" y="1066680"/>
            <a:ext cx="7467840" cy="420876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#include &lt;stdio.h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#include &lt;pthread.h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#define NTHREADS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void test(void *arg) {printf (“Hello, world\n”);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t main(int argc, char *argv[]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thread_t  h[NTHREADS]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r (int i=0; i&lt;NTHREADS; i+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thread_create (&amp;h[i], NULL, (void *)test, NULL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6EB30-3BBC-426F-AFF3-6198C28D94A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D40802-A580-419B-837B-B50028D2F205}" type="datetime1">
              <a:rPr lang="en-US"/>
              <a:t>07/30/26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essage Passing Interface (MPI)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456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685800" indent="-68436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ssage Passing Interface (MPI) is a message passing library standard (based on MPI Forum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85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85800" indent="-68436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l parallelism is explici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8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85800" indent="-68436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upports SMP/Workstation Clusters / heterogeneous network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8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015DB-2937-4528-8D07-CA7F81770AF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446F23-9748-43CA-B79D-21C4EECC8E0C}" type="datetime1">
              <a:rPr lang="en-US"/>
              <a:t>07/30/26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PI – exampl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3" name=""/>
          <p:cNvSpPr/>
          <p:nvPr/>
        </p:nvSpPr>
        <p:spPr>
          <a:xfrm>
            <a:off x="380880" y="838080"/>
            <a:ext cx="8077320" cy="503172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#include "mpi.h"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#include &lt;stdio.h&gt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t main(argc,arg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t argc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har *argv[];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t numtasks, rank, rc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c = MPI_Init(&amp;argc,&amp;argv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f (rc != MPI_SUCCESS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intf ("Error starting MPI program. Terminating.\n"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PI_Abort(MPI_COMM_WORLD, rc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PI_Comm_size(MPI_COMM_WORLD,&amp;numtasks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PI_Comm_rank(MPI_COMM_WORLD,&amp;rank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intf ("Number of tasks= %d My rank= %d\n", numtasks,rank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/******* do some work *******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PI_Finaliz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61E99-5EC4-4E87-802C-E77ECEF6DC1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E7EFC4-2E86-4120-AF9A-B0291F671C5F}" type="datetime1">
              <a:rPr lang="en-US"/>
              <a:t>07/30/26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penMP* </a:t>
            </a:r>
            <a:r>
              <a:rPr b="1" lang="en-US" sz="2800" spc="-1" strike="noStrike">
                <a:solidFill>
                  <a:srgbClr val="f5e647"/>
                </a:solidFill>
                <a:latin typeface="Verdana"/>
              </a:rPr>
              <a:t>[www.openmp.org]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 Application Program Interface (API) for multi-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5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readed, shared memory parallelis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5840" indent="0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orta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24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PI for Fortran 77, Fortran 90, C, and C++, on al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5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rchitectures, including Unix* and Windows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5840" indent="0">
              <a:lnSpc>
                <a:spcPts val="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>
              <a:lnSpc>
                <a:spcPct val="40000"/>
              </a:lnSpc>
              <a:spcBef>
                <a:spcPts val="18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tandardiz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Jointly developed by major SW/HW vendor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andardizes the last 15 years of symmetric multi-processing (SMP) experienc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ts val="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>
              <a:lnSpc>
                <a:spcPct val="60000"/>
              </a:lnSpc>
              <a:spcBef>
                <a:spcPts val="18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jor API componen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iler Directiv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untime Library Routin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nvironment Variabl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55BDC-72DD-4DB5-90ED-685357B1F3A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FB6537-984A-4D01-A13E-624B32C8E23F}" type="datetime1">
              <a:rPr lang="en-US"/>
              <a:t>07/30/26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penMP* Programming Mode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2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read Based Parallelis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20000"/>
              </a:lnSpc>
              <a:spcBef>
                <a:spcPts val="24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 multi-threaded shared memory proces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5840" indent="0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>
              <a:lnSpc>
                <a:spcPct val="7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plicit Parallelis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24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penMP is an Explicit (not automatic) programming mod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24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grammer has full control over paralleliz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>
              <a:lnSpc>
                <a:spcPct val="12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rk-Join Mod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s fork-join model of parallel execu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mpiler Directive Bas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24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ll of OpenMP parallelism is specified through compiler directives imbedded in cod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ested Parallelism Suppor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ynamic Threa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2F384-1869-4337-9752-2EF2317E317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7ADA2D-9719-45C1-9CC8-E14C462663A6}" type="datetime1">
              <a:rPr lang="en-US"/>
              <a:t>07/30/26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"/>
          <p:cNvSpPr/>
          <p:nvPr/>
        </p:nvSpPr>
        <p:spPr>
          <a:xfrm>
            <a:off x="762120" y="1600200"/>
            <a:ext cx="8001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4000"/>
              </a:lnSpc>
              <a:spcBef>
                <a:spcPts val="901"/>
              </a:spcBef>
              <a:buClr>
                <a:srgbClr val="ff5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c00"/>
                </a:solidFill>
                <a:latin typeface="Arial"/>
              </a:rPr>
              <a:t>Master thre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pawns a team of threads as 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4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llelism is added incrementally: i.e., the sequential program evolves into a parallel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18520" cy="68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Fork – Join Parallelism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0" name=""/>
          <p:cNvSpPr/>
          <p:nvPr/>
        </p:nvSpPr>
        <p:spPr>
          <a:xfrm>
            <a:off x="6400800" y="3341520"/>
            <a:ext cx="1523880" cy="19814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4114800" y="3341520"/>
            <a:ext cx="1600200" cy="19814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1752480" y="3341520"/>
            <a:ext cx="1600200" cy="19814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1073160" y="4260960"/>
            <a:ext cx="7556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2216160" y="3828960"/>
            <a:ext cx="7556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2216160" y="4087800"/>
            <a:ext cx="755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2216160" y="4348080"/>
            <a:ext cx="755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2216160" y="4606920"/>
            <a:ext cx="755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 flipV="1">
            <a:off x="1832040" y="3832200"/>
            <a:ext cx="374760" cy="42552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1832040" y="4090680"/>
            <a:ext cx="374760" cy="16668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1835280" y="4267080"/>
            <a:ext cx="374400" cy="810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1835280" y="4267080"/>
            <a:ext cx="374400" cy="33984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2978280" y="3835440"/>
            <a:ext cx="374400" cy="42552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2978280" y="4094280"/>
            <a:ext cx="374400" cy="16668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 flipV="1">
            <a:off x="2975040" y="4264200"/>
            <a:ext cx="374760" cy="8064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 flipV="1">
            <a:off x="2975040" y="4263840"/>
            <a:ext cx="374760" cy="33948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3359160" y="4260960"/>
            <a:ext cx="7556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4502160" y="3828960"/>
            <a:ext cx="755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4502160" y="4087800"/>
            <a:ext cx="755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4502160" y="4348080"/>
            <a:ext cx="755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4502160" y="4606920"/>
            <a:ext cx="755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 flipV="1">
            <a:off x="4118040" y="3832200"/>
            <a:ext cx="374760" cy="42552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 flipV="1">
            <a:off x="4118040" y="4090680"/>
            <a:ext cx="374760" cy="16668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4121280" y="4267080"/>
            <a:ext cx="374400" cy="810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4121280" y="4267080"/>
            <a:ext cx="374400" cy="33984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5264280" y="3835440"/>
            <a:ext cx="374400" cy="42552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5264280" y="4094280"/>
            <a:ext cx="374400" cy="16668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 flipV="1">
            <a:off x="5261040" y="4264200"/>
            <a:ext cx="374760" cy="8064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flipV="1">
            <a:off x="5261040" y="4263840"/>
            <a:ext cx="374760" cy="33948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5645160" y="4260960"/>
            <a:ext cx="7556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6788160" y="3828960"/>
            <a:ext cx="7556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6788160" y="4087800"/>
            <a:ext cx="755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6788160" y="4348080"/>
            <a:ext cx="755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6788160" y="4606920"/>
            <a:ext cx="755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 flipV="1">
            <a:off x="6404040" y="3832200"/>
            <a:ext cx="374760" cy="42552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 flipV="1">
            <a:off x="6404040" y="4090680"/>
            <a:ext cx="374760" cy="16668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6407280" y="4267080"/>
            <a:ext cx="374400" cy="810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6407280" y="4267080"/>
            <a:ext cx="374400" cy="33984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7550280" y="3835440"/>
            <a:ext cx="374400" cy="42552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7550280" y="4094280"/>
            <a:ext cx="374400" cy="16668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 flipV="1">
            <a:off x="7547040" y="4264200"/>
            <a:ext cx="374760" cy="8064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 flipV="1">
            <a:off x="7547040" y="4263840"/>
            <a:ext cx="374760" cy="33948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4502160" y="3570120"/>
            <a:ext cx="7556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4502160" y="4865760"/>
            <a:ext cx="755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4118040" y="3573000"/>
            <a:ext cx="374760" cy="68436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4121280" y="4267080"/>
            <a:ext cx="374400" cy="59868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5264280" y="3576600"/>
            <a:ext cx="374400" cy="68436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 flipV="1">
            <a:off x="5261040" y="4264200"/>
            <a:ext cx="374760" cy="59832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7931160" y="4260960"/>
            <a:ext cx="7556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3276720" y="5576760"/>
            <a:ext cx="3886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allel Reg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 flipV="1">
            <a:off x="6632640" y="5326200"/>
            <a:ext cx="450720" cy="450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 flipH="1" flipV="1">
            <a:off x="2670120" y="5326200"/>
            <a:ext cx="1060560" cy="450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266760" y="4773600"/>
            <a:ext cx="120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ster Thr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 flipV="1">
            <a:off x="5003640" y="5322960"/>
            <a:ext cx="0" cy="3045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 flipV="1">
            <a:off x="952560" y="4332240"/>
            <a:ext cx="450720" cy="450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0EDCD-D2A4-428F-8627-659DF92A5F8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6BF7D2-C9FB-4DB4-8D7D-4DA1DE9BFA14}" type="datetime1">
              <a:rPr lang="en-US"/>
              <a:t>07/30/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penMP* Pragma Syntax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375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st constructs in OpenMP* are compiler directives or pragma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400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 C and C++, the pragmas take the form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#pragma omp </a:t>
            </a:r>
            <a:r>
              <a:rPr b="0" i="1" lang="en-US" sz="2800" spc="-1" strike="noStrike">
                <a:solidFill>
                  <a:srgbClr val="ffff66"/>
                </a:solidFill>
                <a:latin typeface="Verdana"/>
              </a:rPr>
              <a:t>construct [clause [clause]…]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400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 Fortran, the directives take the form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!$OMP </a:t>
            </a:r>
            <a:r>
              <a:rPr b="0" i="1" lang="en-US" sz="2800" spc="-1" strike="noStrike">
                <a:solidFill>
                  <a:srgbClr val="ffff66"/>
                </a:solidFill>
                <a:latin typeface="Verdana"/>
              </a:rPr>
              <a:t>CONSTRUCT [CLAUSE [CLAUSE]…]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7" name=""/>
          <p:cNvSpPr/>
          <p:nvPr/>
        </p:nvSpPr>
        <p:spPr>
          <a:xfrm>
            <a:off x="6086520" y="6573960"/>
            <a:ext cx="30574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Intel and the Intel logo are trademarks or registered trademarks of Intel Corporation or its subsidiaries in the United States or other countries.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34B4E-DAD1-4BDE-B5A3-1511F58CF8A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78E9E5-E28C-4478-8E92-59BF1BB8DD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"/>
          <p:cNvSpPr/>
          <p:nvPr/>
        </p:nvSpPr>
        <p:spPr>
          <a:xfrm>
            <a:off x="1905120" y="4114800"/>
            <a:ext cx="2895480" cy="1523880"/>
          </a:xfrm>
          <a:prstGeom prst="rect">
            <a:avLst/>
          </a:prstGeom>
          <a:solidFill>
            <a:srgbClr val="001e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1447920" y="3809880"/>
            <a:ext cx="326376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/C++ 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#pragma omp parall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{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cae1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a6cae1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4e4fc"/>
                </a:solidFill>
                <a:latin typeface="Arial"/>
                <a:ea typeface="Arial"/>
              </a:rPr>
              <a:t>blo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cae1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6583320" y="3156120"/>
            <a:ext cx="360" cy="27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1" name=""/>
          <p:cNvGrpSpPr/>
          <p:nvPr/>
        </p:nvGrpSpPr>
        <p:grpSpPr>
          <a:xfrm>
            <a:off x="5791320" y="1600200"/>
            <a:ext cx="3116160" cy="3978000"/>
            <a:chOff x="5791320" y="1600200"/>
            <a:chExt cx="3116160" cy="3978000"/>
          </a:xfrm>
        </p:grpSpPr>
        <p:sp>
          <p:nvSpPr>
            <p:cNvPr id="1242" name=""/>
            <p:cNvSpPr/>
            <p:nvPr/>
          </p:nvSpPr>
          <p:spPr>
            <a:xfrm>
              <a:off x="7337520" y="1600200"/>
              <a:ext cx="34920" cy="54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7253280" y="5343480"/>
              <a:ext cx="201600" cy="234720"/>
            </a:xfrm>
            <a:custGeom>
              <a:avLst/>
              <a:gdLst/>
              <a:ahLst/>
              <a:rect l="l" t="t" r="r" b="b"/>
              <a:pathLst>
                <a:path w="138" h="157">
                  <a:moveTo>
                    <a:pt x="69" y="0"/>
                  </a:moveTo>
                  <a:lnTo>
                    <a:pt x="0" y="0"/>
                  </a:lnTo>
                  <a:lnTo>
                    <a:pt x="69" y="157"/>
                  </a:lnTo>
                  <a:lnTo>
                    <a:pt x="138" y="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44" name=""/>
            <p:cNvGrpSpPr/>
            <p:nvPr/>
          </p:nvGrpSpPr>
          <p:grpSpPr>
            <a:xfrm>
              <a:off x="5791320" y="2147760"/>
              <a:ext cx="3116160" cy="3195720"/>
              <a:chOff x="5791320" y="2147760"/>
              <a:chExt cx="3116160" cy="3195720"/>
            </a:xfrm>
          </p:grpSpPr>
          <p:sp>
            <p:nvSpPr>
              <p:cNvPr id="1245" name=""/>
              <p:cNvSpPr/>
              <p:nvPr/>
            </p:nvSpPr>
            <p:spPr>
              <a:xfrm>
                <a:off x="7346880" y="2466720"/>
                <a:ext cx="1179720" cy="728640"/>
              </a:xfrm>
              <a:custGeom>
                <a:avLst/>
                <a:gdLst/>
                <a:ahLst/>
                <a:rect l="l" t="t" r="r" b="b"/>
                <a:pathLst>
                  <a:path w="805" h="486">
                    <a:moveTo>
                      <a:pt x="0" y="21"/>
                    </a:moveTo>
                    <a:lnTo>
                      <a:pt x="10" y="0"/>
                    </a:lnTo>
                    <a:lnTo>
                      <a:pt x="805" y="464"/>
                    </a:lnTo>
                    <a:lnTo>
                      <a:pt x="794" y="486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7346880" y="3959280"/>
                <a:ext cx="1179720" cy="628560"/>
              </a:xfrm>
              <a:custGeom>
                <a:avLst/>
                <a:gdLst/>
                <a:ahLst/>
                <a:rect l="l" t="t" r="r" b="b"/>
                <a:pathLst>
                  <a:path w="805" h="419">
                    <a:moveTo>
                      <a:pt x="805" y="21"/>
                    </a:moveTo>
                    <a:lnTo>
                      <a:pt x="794" y="0"/>
                    </a:lnTo>
                    <a:lnTo>
                      <a:pt x="0" y="398"/>
                    </a:lnTo>
                    <a:lnTo>
                      <a:pt x="10" y="419"/>
                    </a:lnTo>
                    <a:lnTo>
                      <a:pt x="805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7337520" y="3975120"/>
                <a:ext cx="34920" cy="398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6181560" y="3959280"/>
                <a:ext cx="1179720" cy="628560"/>
              </a:xfrm>
              <a:custGeom>
                <a:avLst/>
                <a:gdLst/>
                <a:ahLst/>
                <a:rect l="l" t="t" r="r" b="b"/>
                <a:pathLst>
                  <a:path w="805" h="419">
                    <a:moveTo>
                      <a:pt x="0" y="21"/>
                    </a:moveTo>
                    <a:lnTo>
                      <a:pt x="11" y="0"/>
                    </a:lnTo>
                    <a:lnTo>
                      <a:pt x="805" y="398"/>
                    </a:lnTo>
                    <a:lnTo>
                      <a:pt x="795" y="4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7337520" y="2582640"/>
                <a:ext cx="34920" cy="59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6181560" y="2566800"/>
                <a:ext cx="1179720" cy="628560"/>
              </a:xfrm>
              <a:custGeom>
                <a:avLst/>
                <a:gdLst/>
                <a:ahLst/>
                <a:rect l="l" t="t" r="r" b="b"/>
                <a:pathLst>
                  <a:path w="805" h="419">
                    <a:moveTo>
                      <a:pt x="805" y="21"/>
                    </a:moveTo>
                    <a:lnTo>
                      <a:pt x="795" y="0"/>
                    </a:lnTo>
                    <a:lnTo>
                      <a:pt x="0" y="397"/>
                    </a:lnTo>
                    <a:lnTo>
                      <a:pt x="11" y="419"/>
                    </a:lnTo>
                    <a:lnTo>
                      <a:pt x="805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6966000" y="3166920"/>
                <a:ext cx="776160" cy="797040"/>
              </a:xfrm>
              <a:custGeom>
                <a:avLst/>
                <a:gdLst>
                  <a:gd name="textAreaLeft" fmla="*/ 55800 w 776160"/>
                  <a:gd name="textAreaRight" fmla="*/ 720360 w 776160"/>
                  <a:gd name="textAreaTop" fmla="*/ 55800 h 797040"/>
                  <a:gd name="textAreaBottom" fmla="*/ 741240 h 797040"/>
                </a:gdLst>
                <a:ahLst/>
                <a:rect l="textAreaLeft" t="textAreaTop" r="textAreaRight" b="textAreaBottom"/>
                <a:pathLst>
                  <a:path w="21600" h="22181">
                    <a:moveTo>
                      <a:pt x="5329" y="0"/>
                    </a:moveTo>
                    <a:arcTo wR="5329" hR="5329" stAng="16200000" swAng="-5400000"/>
                    <a:lnTo>
                      <a:pt x="0" y="16852"/>
                    </a:lnTo>
                    <a:arcTo wR="5329" hR="5329" stAng="10800000" swAng="-5400000"/>
                    <a:lnTo>
                      <a:pt x="16271" y="22181"/>
                    </a:lnTo>
                    <a:arcTo wR="5329" hR="5329" stAng="5400000" swAng="-5400000"/>
                    <a:lnTo>
                      <a:pt x="21600" y="5329"/>
                    </a:lnTo>
                    <a:arcTo wR="5329" hR="5329" stAng="0" swAng="-5400000"/>
                    <a:close/>
                  </a:path>
                </a:pathLst>
              </a:custGeom>
              <a:solidFill>
                <a:srgbClr val="ffff66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5791320" y="3157560"/>
                <a:ext cx="777600" cy="796680"/>
              </a:xfrm>
              <a:custGeom>
                <a:avLst/>
                <a:gdLst>
                  <a:gd name="textAreaLeft" fmla="*/ 56160 w 777600"/>
                  <a:gd name="textAreaRight" fmla="*/ 721440 w 777600"/>
                  <a:gd name="textAreaTop" fmla="*/ 56160 h 796680"/>
                  <a:gd name="textAreaBottom" fmla="*/ 740520 h 796680"/>
                </a:gdLst>
                <a:ahLst/>
                <a:rect l="textAreaLeft" t="textAreaTop" r="textAreaRight" b="textAreaBottom"/>
                <a:pathLst>
                  <a:path w="21600" h="22130">
                    <a:moveTo>
                      <a:pt x="5329" y="0"/>
                    </a:moveTo>
                    <a:arcTo wR="5329" hR="5329" stAng="16200000" swAng="-5400000"/>
                    <a:lnTo>
                      <a:pt x="0" y="16801"/>
                    </a:lnTo>
                    <a:arcTo wR="5329" hR="5329" stAng="10800000" swAng="-5400000"/>
                    <a:lnTo>
                      <a:pt x="16271" y="22130"/>
                    </a:lnTo>
                    <a:arcTo wR="5329" hR="5329" stAng="5400000" swAng="-5400000"/>
                    <a:lnTo>
                      <a:pt x="21600" y="5329"/>
                    </a:lnTo>
                    <a:arcTo wR="5329" hR="5329" stAng="0" swAng="-5400000"/>
                    <a:close/>
                  </a:path>
                </a:pathLst>
              </a:custGeom>
              <a:solidFill>
                <a:srgbClr val="a6cae1"/>
              </a:solidFill>
              <a:ln w="11160">
                <a:solidFill>
                  <a:srgbClr val="ff5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8118360" y="3146400"/>
                <a:ext cx="777960" cy="796680"/>
              </a:xfrm>
              <a:custGeom>
                <a:avLst/>
                <a:gdLst>
                  <a:gd name="textAreaLeft" fmla="*/ 56160 w 777960"/>
                  <a:gd name="textAreaRight" fmla="*/ 721800 w 777960"/>
                  <a:gd name="textAreaTop" fmla="*/ 56160 h 796680"/>
                  <a:gd name="textAreaBottom" fmla="*/ 740520 h 796680"/>
                </a:gdLst>
                <a:ahLst/>
                <a:rect l="textAreaLeft" t="textAreaTop" r="textAreaRight" b="textAreaBottom"/>
                <a:pathLst>
                  <a:path w="21600" h="22120">
                    <a:moveTo>
                      <a:pt x="5329" y="0"/>
                    </a:moveTo>
                    <a:arcTo wR="5329" hR="5329" stAng="16200000" swAng="-5400000"/>
                    <a:lnTo>
                      <a:pt x="0" y="16791"/>
                    </a:lnTo>
                    <a:arcTo wR="5329" hR="5329" stAng="10800000" swAng="-5400000"/>
                    <a:lnTo>
                      <a:pt x="16271" y="22120"/>
                    </a:lnTo>
                    <a:arcTo wR="5329" hR="5329" stAng="5400000" swAng="-5400000"/>
                    <a:lnTo>
                      <a:pt x="21600" y="5329"/>
                    </a:lnTo>
                    <a:arcTo wR="5329" hR="5329" stAng="0" swAng="-5400000"/>
                    <a:close/>
                  </a:path>
                </a:pathLst>
              </a:custGeom>
              <a:solidFill>
                <a:srgbClr val="567eb9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5800680" y="2384280"/>
                <a:ext cx="3106800" cy="398520"/>
              </a:xfrm>
              <a:prstGeom prst="ellipse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129000" y="2455920"/>
                <a:ext cx="21754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5c00"/>
                    </a:solidFill>
                    <a:latin typeface="Times New Roman"/>
                  </a:rPr>
                  <a:t>#pragma omp paralle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5880240" y="3308400"/>
                <a:ext cx="566280" cy="213480"/>
              </a:xfrm>
              <a:prstGeom prst="rect">
                <a:avLst/>
              </a:prstGeom>
              <a:solidFill>
                <a:srgbClr val="a6ca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5c00"/>
                    </a:solidFill>
                    <a:latin typeface="Times New Roman"/>
                  </a:rPr>
                  <a:t>Threa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6130800" y="3484440"/>
                <a:ext cx="153000" cy="366120"/>
              </a:xfrm>
              <a:prstGeom prst="rect">
                <a:avLst/>
              </a:prstGeom>
              <a:solidFill>
                <a:srgbClr val="a6ca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5c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7050240" y="3308400"/>
                <a:ext cx="566280" cy="21348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5c00"/>
                    </a:solidFill>
                    <a:latin typeface="Times New Roman"/>
                  </a:rPr>
                  <a:t>Threa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7294320" y="3484440"/>
                <a:ext cx="153000" cy="36612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5c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8210880" y="3308400"/>
                <a:ext cx="566280" cy="213480"/>
              </a:xfrm>
              <a:prstGeom prst="rect">
                <a:avLst/>
              </a:prstGeom>
              <a:solidFill>
                <a:srgbClr val="567e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5c00"/>
                    </a:solidFill>
                    <a:latin typeface="Times New Roman"/>
                  </a:rPr>
                  <a:t>Threa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8461080" y="3484440"/>
                <a:ext cx="153000" cy="366120"/>
              </a:xfrm>
              <a:prstGeom prst="rect">
                <a:avLst/>
              </a:prstGeom>
              <a:solidFill>
                <a:srgbClr val="567e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5c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7253280" y="2147760"/>
                <a:ext cx="201600" cy="236520"/>
              </a:xfrm>
              <a:custGeom>
                <a:avLst/>
                <a:gdLst/>
                <a:ahLst/>
                <a:rect l="l" t="t" r="r" b="b"/>
                <a:pathLst>
                  <a:path w="138" h="157">
                    <a:moveTo>
                      <a:pt x="69" y="0"/>
                    </a:moveTo>
                    <a:lnTo>
                      <a:pt x="0" y="0"/>
                    </a:lnTo>
                    <a:lnTo>
                      <a:pt x="69" y="157"/>
                    </a:lnTo>
                    <a:lnTo>
                      <a:pt x="138" y="0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7337520" y="4770360"/>
                <a:ext cx="34920" cy="573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7238880" y="4343400"/>
                <a:ext cx="228600" cy="457200"/>
              </a:xfrm>
              <a:prstGeom prst="ellipse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65" name=""/>
          <p:cNvSpPr/>
          <p:nvPr/>
        </p:nvSpPr>
        <p:spPr>
          <a:xfrm>
            <a:off x="6086520" y="6573960"/>
            <a:ext cx="30574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Intel and the Intel logo are trademarks or registered trademarks of Intel Corporation or its subsidiaries in the United States or other countries.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penMP* -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parallel region specification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375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8" name=""/>
          <p:cNvSpPr/>
          <p:nvPr/>
        </p:nvSpPr>
        <p:spPr>
          <a:xfrm>
            <a:off x="609480" y="1600200"/>
            <a:ext cx="4876920" cy="201420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efines parallel region over structured block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reads are created as “parallel” pragma is cros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reads block at end of reg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ata is shared among threads unless specified otherwi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D90C1-CD8D-4C4C-BCD5-0E916EB1598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921083-0C30-4CB8-856F-37016C43F461}" type="datetime1">
              <a:rPr lang="en-US"/>
              <a:t>07/30/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OpenMP* - Example [Prime Number Gen.]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0" name=""/>
          <p:cNvSpPr/>
          <p:nvPr/>
        </p:nvSpPr>
        <p:spPr>
          <a:xfrm>
            <a:off x="2901960" y="1074600"/>
            <a:ext cx="6137280" cy="4869000"/>
          </a:xfrm>
          <a:prstGeom prst="rect">
            <a:avLst/>
          </a:prstGeom>
          <a:solidFill>
            <a:srgbClr val="eaeaea"/>
          </a:solidFill>
          <a:ln w="9360">
            <a:solidFill>
              <a:srgbClr val="ff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bool</a:t>
            </a:r>
            <a:r>
              <a:rPr b="1" lang="en-US" sz="1600" spc="-1" strike="noStrike">
                <a:solidFill>
                  <a:srgbClr val="ff5c00"/>
                </a:solidFill>
                <a:latin typeface="Courier New"/>
              </a:rPr>
              <a:t> TestForPrime(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ff5c00"/>
                </a:solidFill>
                <a:latin typeface="Courier New"/>
              </a:rPr>
              <a:t> val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c00"/>
                </a:solidFill>
                <a:latin typeface="Courier New"/>
              </a:rPr>
              <a:t>{   </a:t>
            </a:r>
            <a:r>
              <a:rPr b="1" lang="en-US" sz="1600" spc="-1" strike="noStrike">
                <a:solidFill>
                  <a:srgbClr val="0860a8"/>
                </a:solidFill>
                <a:latin typeface="Courier New"/>
              </a:rPr>
              <a:t>// let’s start checking from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c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ff5c00"/>
                </a:solidFill>
                <a:latin typeface="Courier New"/>
              </a:rPr>
              <a:t> limit, factor = 3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c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5c00"/>
                </a:solidFill>
                <a:latin typeface="Courier New"/>
              </a:rPr>
              <a:t>limit = (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long</a:t>
            </a:r>
            <a:r>
              <a:rPr b="1" lang="en-US" sz="1600" spc="-1" strike="noStrike">
                <a:solidFill>
                  <a:srgbClr val="ff5c00"/>
                </a:solidFill>
                <a:latin typeface="Courier New"/>
              </a:rPr>
              <a:t>)(sqrtf((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float</a:t>
            </a:r>
            <a:r>
              <a:rPr b="1" lang="en-US" sz="1600" spc="-1" strike="noStrike">
                <a:solidFill>
                  <a:srgbClr val="ff5c00"/>
                </a:solidFill>
                <a:latin typeface="Courier New"/>
              </a:rPr>
              <a:t>)val)+0.5f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c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while</a:t>
            </a:r>
            <a:r>
              <a:rPr b="1" lang="en-US" sz="1600" spc="-1" strike="noStrike">
                <a:solidFill>
                  <a:srgbClr val="ff5c00"/>
                </a:solidFill>
                <a:latin typeface="Courier New"/>
              </a:rPr>
              <a:t>( (factor &lt;= limit) &amp;&amp; (val % factor) 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c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ff5c00"/>
                </a:solidFill>
                <a:latin typeface="Courier New"/>
              </a:rPr>
              <a:t>factor ++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c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return </a:t>
            </a:r>
            <a:r>
              <a:rPr b="1" lang="en-US" sz="1600" spc="-1" strike="noStrike">
                <a:solidFill>
                  <a:srgbClr val="ff5c00"/>
                </a:solidFill>
                <a:latin typeface="Courier New"/>
              </a:rPr>
              <a:t>(factor &gt; limi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c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ff5c00"/>
                </a:solidFill>
                <a:latin typeface="Courier New"/>
              </a:rPr>
              <a:t> FindPrimes(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ff5c00"/>
                </a:solidFill>
                <a:latin typeface="Courier New"/>
              </a:rPr>
              <a:t> start,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int </a:t>
            </a:r>
            <a:r>
              <a:rPr b="1" lang="en-US" sz="1600" spc="-1" strike="noStrike">
                <a:solidFill>
                  <a:srgbClr val="ff5c00"/>
                </a:solidFill>
                <a:latin typeface="Courier New"/>
              </a:rPr>
              <a:t>end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c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c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c2e86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ff5c00"/>
                </a:solidFill>
                <a:latin typeface="Courier New"/>
              </a:rPr>
              <a:t> range = end - start + 1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c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c2e86"/>
                </a:solidFill>
                <a:latin typeface="Courier New"/>
              </a:rPr>
              <a:t>for</a:t>
            </a:r>
            <a:r>
              <a:rPr b="1" lang="en-US" sz="1600" spc="-1" strike="noStrike">
                <a:solidFill>
                  <a:srgbClr val="ff5c00"/>
                </a:solidFill>
                <a:latin typeface="Courier New"/>
              </a:rPr>
              <a:t>( </a:t>
            </a:r>
            <a:r>
              <a:rPr b="1" lang="en-US" sz="1600" spc="-1" strike="noStrike">
                <a:solidFill>
                  <a:srgbClr val="0c2e86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ff5c00"/>
                </a:solidFill>
                <a:latin typeface="Courier New"/>
              </a:rPr>
              <a:t> i = start; i &lt;= end; i += 2 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c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5c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c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c2e86"/>
                </a:solidFill>
                <a:latin typeface="Courier New"/>
              </a:rPr>
              <a:t>if</a:t>
            </a:r>
            <a:r>
              <a:rPr b="1" lang="en-US" sz="1600" spc="-1" strike="noStrike">
                <a:solidFill>
                  <a:srgbClr val="ff5c00"/>
                </a:solidFill>
                <a:latin typeface="Courier New"/>
              </a:rPr>
              <a:t>( TestForPrime(i) 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c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ff5c00"/>
                </a:solidFill>
                <a:latin typeface="Courier New"/>
              </a:rPr>
              <a:t>globalPrimes[gPrimesFound++] = i;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c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5c00"/>
                </a:solidFill>
                <a:latin typeface="Courier New"/>
              </a:rPr>
              <a:t>ShowProgress(i, rang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c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5c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c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2057400" y="3962520"/>
            <a:ext cx="6877080" cy="17096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5c00"/>
            </a:solidFill>
            <a:miter/>
          </a:ln>
          <a:effectLst>
            <a:outerShdw dist="107932" dir="2700000" blurRad="0" rotWithShape="0">
              <a:srgbClr val="ff5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en-US" sz="2000" spc="-1" strike="noStrike">
                <a:solidFill>
                  <a:srgbClr val="ff5c00"/>
                </a:solidFill>
                <a:latin typeface="Courier New"/>
              </a:rPr>
              <a:t>(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ff5c00"/>
                </a:solidFill>
                <a:latin typeface="Courier New"/>
              </a:rPr>
              <a:t> i = start; i &lt;= end; i+= 2 )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c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ff5c00"/>
                </a:solidFill>
                <a:latin typeface="Courier New"/>
              </a:rPr>
              <a:t>( TestForPrime(i)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c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5c00"/>
                </a:solidFill>
                <a:latin typeface="Courier New"/>
              </a:rPr>
              <a:t>globalPrimes[gPrimesFound++] = i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c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5c00"/>
                </a:solidFill>
                <a:latin typeface="Courier New"/>
              </a:rPr>
              <a:t>ShowProgress(i, range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c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5c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 rot="10800000">
            <a:off x="423720" y="2162160"/>
            <a:ext cx="403200" cy="3492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ff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 rot="10800000">
            <a:off x="423720" y="2506680"/>
            <a:ext cx="403200" cy="3492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ff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 rot="10800000">
            <a:off x="423720" y="2852640"/>
            <a:ext cx="403200" cy="3492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ff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 rot="10800000">
            <a:off x="423720" y="3198960"/>
            <a:ext cx="403200" cy="3492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ff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 rot="10800000">
            <a:off x="423720" y="3544920"/>
            <a:ext cx="403200" cy="3492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ff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 rot="10800000">
            <a:off x="423720" y="3889440"/>
            <a:ext cx="403200" cy="3492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ff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 rot="10800000">
            <a:off x="423720" y="4235400"/>
            <a:ext cx="403200" cy="3492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ff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 rot="10800000">
            <a:off x="423720" y="4581000"/>
            <a:ext cx="403200" cy="34956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ff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 rot="10800000">
            <a:off x="423720" y="4925520"/>
            <a:ext cx="403200" cy="34956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ff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1" name=""/>
          <p:cNvGrpSpPr/>
          <p:nvPr/>
        </p:nvGrpSpPr>
        <p:grpSpPr>
          <a:xfrm>
            <a:off x="538200" y="1643040"/>
            <a:ext cx="1325520" cy="398880"/>
            <a:chOff x="538200" y="1643040"/>
            <a:chExt cx="1325520" cy="398880"/>
          </a:xfrm>
        </p:grpSpPr>
        <p:sp>
          <p:nvSpPr>
            <p:cNvPr id="1282" name=""/>
            <p:cNvSpPr/>
            <p:nvPr/>
          </p:nvSpPr>
          <p:spPr>
            <a:xfrm>
              <a:off x="538200" y="1643040"/>
              <a:ext cx="28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942840" y="1643040"/>
              <a:ext cx="92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acto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84" name=""/>
          <p:cNvSpPr/>
          <p:nvPr/>
        </p:nvSpPr>
        <p:spPr>
          <a:xfrm>
            <a:off x="366840" y="210348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5c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2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366840" y="24494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5c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2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366840" y="27957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5c00"/>
                </a:solidFill>
                <a:latin typeface="Arial"/>
              </a:rPr>
              <a:t>7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2 3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366840" y="314172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5c00"/>
                </a:solidFill>
                <a:latin typeface="Arial"/>
              </a:rPr>
              <a:t>9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2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366840" y="34862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c00"/>
                </a:solidFill>
                <a:latin typeface="Arial"/>
              </a:rPr>
              <a:t>1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2 3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366840" y="38322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c00"/>
                </a:solidFill>
                <a:latin typeface="Arial"/>
              </a:rPr>
              <a:t>1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2 3 4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366840" y="41781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c00"/>
                </a:solidFill>
                <a:latin typeface="Arial"/>
              </a:rPr>
              <a:t>15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2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366840" y="452268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c00"/>
                </a:solidFill>
                <a:latin typeface="Arial"/>
              </a:rPr>
              <a:t>17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2 3 4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366840" y="4869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c00"/>
                </a:solidFill>
                <a:latin typeface="Arial"/>
              </a:rPr>
              <a:t>19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2 3 4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 rot="10800000">
            <a:off x="423720" y="3198960"/>
            <a:ext cx="403200" cy="349200"/>
          </a:xfrm>
          <a:prstGeom prst="rect">
            <a:avLst/>
          </a:prstGeom>
          <a:solidFill>
            <a:srgbClr val="ff5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 rot="10800000">
            <a:off x="423720" y="4235400"/>
            <a:ext cx="403200" cy="349200"/>
          </a:xfrm>
          <a:prstGeom prst="rect">
            <a:avLst/>
          </a:prstGeom>
          <a:solidFill>
            <a:srgbClr val="ff5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5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5229360" cy="1490760"/>
          </a:xfrm>
          <a:prstGeom prst="rect">
            <a:avLst/>
          </a:prstGeom>
          <a:ln w="0">
            <a:noFill/>
          </a:ln>
        </p:spPr>
      </p:pic>
      <p:sp>
        <p:nvSpPr>
          <p:cNvPr id="1296" name=""/>
          <p:cNvSpPr/>
          <p:nvPr/>
        </p:nvSpPr>
        <p:spPr>
          <a:xfrm>
            <a:off x="228600" y="1066680"/>
            <a:ext cx="23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Serial Exe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DA855-2F92-482A-9978-6A3A33AE3547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35C11F-2114-4200-B6D2-5221D1AAECC5}" type="datetime1">
              <a:rPr lang="en-US"/>
              <a:t>07/30/26</a:t>
            </a:fld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1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ulti-Core Processors - Overview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456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685800" indent="-2286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multi-core processors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ated circuit (IC) chips containing more than one identical physical processor (core) in the same IC package. OS perceives each core as a discrete processo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core has its own complete set of resources, and may share the on-die cache lay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es may have on-die communication path to front-side bus (FSB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a multi processor?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4CD51-0EC2-482D-AA6B-46E8B4F2C2E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7379E6-7691-4CBC-9281-65D94491693A}" type="datetime1">
              <a:rPr lang="en-US"/>
              <a:t>07/30/26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OpenMP* - Example [Prime Number Gen.]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                  -&gt; With OpenMP* 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763120" cy="4572000"/>
          </a:xfrm>
          <a:prstGeom prst="rect">
            <a:avLst/>
          </a:prstGeom>
          <a:solidFill>
            <a:srgbClr val="001e8a"/>
          </a:solidFill>
          <a:ln w="9360">
            <a:solidFill>
              <a:srgbClr val="ffffff"/>
            </a:solidFill>
            <a:miter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#pragma omp parallel f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( int</a:t>
            </a:r>
            <a:r>
              <a:rPr b="0" lang="en-US" sz="2800" spc="-1" strike="noStrike">
                <a:solidFill>
                  <a:srgbClr val="ff5c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= start; i &lt;= end; i+= 2 ){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f( TestForPrime(i) 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lobalPrimes[gPrimesFound++] = i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howProgress(i, range)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99" name=""/>
          <p:cNvGrpSpPr/>
          <p:nvPr/>
        </p:nvGrpSpPr>
        <p:grpSpPr>
          <a:xfrm>
            <a:off x="914400" y="1219320"/>
            <a:ext cx="2154240" cy="1900440"/>
            <a:chOff x="914400" y="1219320"/>
            <a:chExt cx="2154240" cy="1900440"/>
          </a:xfrm>
        </p:grpSpPr>
        <p:sp>
          <p:nvSpPr>
            <p:cNvPr id="1300" name=""/>
            <p:cNvSpPr/>
            <p:nvPr/>
          </p:nvSpPr>
          <p:spPr>
            <a:xfrm>
              <a:off x="2117520" y="1219320"/>
              <a:ext cx="951120" cy="840960"/>
            </a:xfrm>
            <a:prstGeom prst="ellipse">
              <a:avLst/>
            </a:prstGeom>
            <a:noFill/>
            <a:ln w="28440">
              <a:solidFill>
                <a:srgbClr val="ff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 flipV="1">
              <a:off x="2211120" y="2079360"/>
              <a:ext cx="201600" cy="437760"/>
            </a:xfrm>
            <a:prstGeom prst="line">
              <a:avLst/>
            </a:prstGeom>
            <a:ln w="57240">
              <a:solidFill>
                <a:srgbClr val="ff5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 rot="16200000">
              <a:off x="1442520" y="1984320"/>
              <a:ext cx="606960" cy="1663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5c00"/>
                  </a:solidFill>
                  <a:latin typeface="Arial"/>
                </a:rPr>
                <a:t>OpenMP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3" name=""/>
          <p:cNvGrpSpPr/>
          <p:nvPr/>
        </p:nvGrpSpPr>
        <p:grpSpPr>
          <a:xfrm>
            <a:off x="2837160" y="1219320"/>
            <a:ext cx="4195080" cy="3447360"/>
            <a:chOff x="2837160" y="1219320"/>
            <a:chExt cx="4195080" cy="3447360"/>
          </a:xfrm>
        </p:grpSpPr>
        <p:sp>
          <p:nvSpPr>
            <p:cNvPr id="1304" name=""/>
            <p:cNvSpPr/>
            <p:nvPr/>
          </p:nvSpPr>
          <p:spPr>
            <a:xfrm>
              <a:off x="2962440" y="1219320"/>
              <a:ext cx="1629000" cy="841320"/>
            </a:xfrm>
            <a:prstGeom prst="ellipse">
              <a:avLst/>
            </a:prstGeom>
            <a:noFill/>
            <a:ln w="28440">
              <a:solidFill>
                <a:srgbClr val="ff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2837160" y="3719520"/>
              <a:ext cx="4195080" cy="947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5c00"/>
                  </a:solidFill>
                  <a:latin typeface="Arial"/>
                </a:rPr>
                <a:t>Create threads here for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5c00"/>
                  </a:solidFill>
                  <a:latin typeface="Arial"/>
                </a:rPr>
                <a:t>this parallel regio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 flipH="1" flipV="1">
              <a:off x="3918240" y="2065320"/>
              <a:ext cx="712800" cy="1682640"/>
            </a:xfrm>
            <a:prstGeom prst="line">
              <a:avLst/>
            </a:prstGeom>
            <a:ln w="57240">
              <a:solidFill>
                <a:srgbClr val="ff5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7" name=""/>
          <p:cNvGrpSpPr/>
          <p:nvPr/>
        </p:nvGrpSpPr>
        <p:grpSpPr>
          <a:xfrm>
            <a:off x="4419720" y="1219320"/>
            <a:ext cx="3588480" cy="2216880"/>
            <a:chOff x="4419720" y="1219320"/>
            <a:chExt cx="3588480" cy="2216880"/>
          </a:xfrm>
        </p:grpSpPr>
        <p:sp>
          <p:nvSpPr>
            <p:cNvPr id="1308" name=""/>
            <p:cNvSpPr/>
            <p:nvPr/>
          </p:nvSpPr>
          <p:spPr>
            <a:xfrm>
              <a:off x="4419720" y="1219320"/>
              <a:ext cx="932040" cy="731520"/>
            </a:xfrm>
            <a:prstGeom prst="ellipse">
              <a:avLst/>
            </a:prstGeom>
            <a:noFill/>
            <a:ln w="28440">
              <a:solidFill>
                <a:srgbClr val="ff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279400" y="2489040"/>
              <a:ext cx="2728800" cy="947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5c00"/>
                  </a:solidFill>
                  <a:latin typeface="Arial"/>
                </a:rPr>
                <a:t>Defined by the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for</a:t>
              </a:r>
              <a:r>
                <a:rPr b="1" lang="en-US" sz="2800" spc="-1" strike="noStrike">
                  <a:solidFill>
                    <a:srgbClr val="ff5c00"/>
                  </a:solidFill>
                  <a:latin typeface="Arial"/>
                </a:rPr>
                <a:t> loop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H="1" flipV="1">
              <a:off x="5262840" y="1841400"/>
              <a:ext cx="1481040" cy="656640"/>
            </a:xfrm>
            <a:prstGeom prst="line">
              <a:avLst/>
            </a:prstGeom>
            <a:ln w="57240">
              <a:solidFill>
                <a:srgbClr val="ff5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311" name="" descr=""/>
          <p:cNvPicPr/>
          <p:nvPr/>
        </p:nvPicPr>
        <p:blipFill>
          <a:blip r:embed="rId1"/>
          <a:stretch/>
        </p:blipFill>
        <p:spPr>
          <a:xfrm>
            <a:off x="1828800" y="4495680"/>
            <a:ext cx="5229360" cy="14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47865-CB3F-4407-99C9-0569A13672D5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B39ABE-02C7-4F45-A798-2C3AC73A0931}" type="datetime1">
              <a:rPr lang="en-US"/>
              <a:t>07/30/26</a:t>
            </a:fld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uto-parallelis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uto-parallelism is implicit parallelism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compiler will do automatic threading of loops and other structures, without having to manually insert OpenMP* directiv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cus is on loop unrolling and splitting. Loops whose trip counts are known can be  parallelized, and no loop carried dependencies exists (read after write, write after read)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58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TE: A loop carried dependence occurs when same memory location is referenced in different iterations of the loop.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44420-05A4-4ED4-ABBB-21A72C0C7F8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4222FC-FC9F-4908-906F-08A490D6E82E}" type="datetime1">
              <a:rPr lang="en-US"/>
              <a:t>07/30/26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uto-parallelism - Examp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6" name=""/>
          <p:cNvSpPr/>
          <p:nvPr/>
        </p:nvSpPr>
        <p:spPr>
          <a:xfrm>
            <a:off x="457200" y="1676520"/>
            <a:ext cx="3276720" cy="131076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r (i=1; i&lt;100; i++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{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[i] = a[i] + b[i] * c[i]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5202360" y="1600200"/>
            <a:ext cx="3313080" cy="338580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// Thread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r (i=1; i&lt;50; i++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[i] = a[i] + b[i] * c[i]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// Thread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r (i=50; i&lt;100; i++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[i] = a[i] + b[i] * c[i]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1600200" y="3657600"/>
            <a:ext cx="2514600" cy="398880"/>
          </a:xfrm>
          <a:prstGeom prst="rect">
            <a:avLst/>
          </a:prstGeom>
          <a:solidFill>
            <a:srgbClr val="f5e6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c00"/>
                </a:solidFill>
                <a:latin typeface="Verdana"/>
              </a:rPr>
              <a:t>Auto-parallel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914400" y="3124080"/>
            <a:ext cx="0" cy="7621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914400" y="3886200"/>
            <a:ext cx="68580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4114800" y="3886200"/>
            <a:ext cx="106668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F3B3B-1C0D-4B93-AF0B-4597BBC5CE48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6D728F-FF24-4481-9B1B-E67049C4FD14}" type="datetime1">
              <a:rPr lang="en-US"/>
              <a:t>07/30/26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reading Issues To Deal With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ata Rac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ncurrent access of same variable by multiple threads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ynchroniz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hare data access must be coordinat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read Stall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reads wait indefinitely due to dangling lock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ad Lock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definite wait for resources, caused by locking hierarchy in thread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alse Sharing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reads writing different data on the same cache lin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5216B-6F47-4CE7-A84C-7A671D57ABFD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4120DB-276F-41C4-8954-A4F1B0713282}" type="datetime1">
              <a:rPr lang="en-US"/>
              <a:t>07/30/26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False Sharing – Memory conflic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510552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ata elements from multiple threads lie on same cache lin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uld cause problem even if threads are not accessing same memory loc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26" name="" descr=""/>
          <p:cNvPicPr/>
          <p:nvPr/>
        </p:nvPicPr>
        <p:blipFill>
          <a:blip r:embed="rId1"/>
          <a:stretch/>
        </p:blipFill>
        <p:spPr>
          <a:xfrm>
            <a:off x="5410080" y="1219320"/>
            <a:ext cx="3581640" cy="3733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FB884-82F8-4ABD-9608-8328547CAA57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46A396-CB33-46C6-807A-EA86FE1E643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mmon Performance Issu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lnSpc>
                <a:spcPct val="85000"/>
              </a:lnSpc>
              <a:spcBef>
                <a:spcPts val="1400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arallel Overhea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85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ue to thread creation, scheduling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85000"/>
              </a:lnSpc>
              <a:spcBef>
                <a:spcPts val="1400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ynchroniz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85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Excessive use of global data, contention for the same synchronization objec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85000"/>
              </a:lnSpc>
              <a:spcBef>
                <a:spcPts val="1400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oad Imbalan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85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mproper distribution of parallel wor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85000"/>
              </a:lnSpc>
              <a:spcBef>
                <a:spcPts val="1400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ranularit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85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No sufficient parallel wor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81963-80BF-41A9-9003-636507714290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D78A38-7E9D-444E-A75A-4F18F7A531B4}" type="datetime1">
              <a:rPr lang="en-US"/>
              <a:t>07/30/26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38188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arallel Overhead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21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read Creation overhea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verhead increases rapidly as the number of active threads increas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21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lu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se of re-usable threads and thread pool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725400" indent="-1522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mortizes the cost of thread creation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725400" indent="-1522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Keeps number of active threads relatively consta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741B9-2448-420F-9B84-46AD7DD22939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3716AC-ABF3-4D6B-948A-A28254C76C66}" type="datetime1">
              <a:rPr lang="en-US"/>
              <a:t>07/30/2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ynchronization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85000"/>
              </a:lnSpc>
              <a:spcBef>
                <a:spcPts val="21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ap conten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85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llocation from heap causes implicit synchroniz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85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llocate on stack or use thread local storag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5000"/>
              </a:lnSpc>
              <a:spcBef>
                <a:spcPts val="21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tomic updates versus critical sec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85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ome global data updates can use atomic operation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85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atomic updates whenever possib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5000"/>
              </a:lnSpc>
              <a:spcBef>
                <a:spcPts val="21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ritical Sections vs. Mutual Exclusion AP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85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CRITICAL SECTION objects when visibility across process boundaries is not requir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85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troduces lesser overhea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6ECAE-3EA9-48B5-928F-2157D87AC91D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6AE489-152B-4F83-BDB3-8E32E4BECE62}" type="datetime1">
              <a:rPr lang="en-US"/>
              <a:t>07/30/26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reading tools 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read Checker tool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n be used to help debug for correctness of threaded application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n pin-point notorious threading bugs like data races, thread stalls, deadlocks etc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read Profiler tool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sed for performance tuning to maximize code performa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n pinpoint performance bottlenecks in threaded applications like load imbalance, granularity, load imbalance and synchroniz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F3C8D-EC60-4951-9309-F81B08202B94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E54E03-69A0-415F-9607-B80978E17C57}" type="datetime1">
              <a:rPr lang="en-US"/>
              <a:t>07/30/26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7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Example Thread Checker tool: Intel® Thread  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                                                 Checker</a:t>
            </a: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36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7620120" cy="3914640"/>
          </a:xfrm>
          <a:prstGeom prst="rect">
            <a:avLst/>
          </a:prstGeom>
          <a:ln w="0">
            <a:noFill/>
          </a:ln>
        </p:spPr>
      </p:pic>
      <p:grpSp>
        <p:nvGrpSpPr>
          <p:cNvPr id="1337" name=""/>
          <p:cNvGrpSpPr/>
          <p:nvPr/>
        </p:nvGrpSpPr>
        <p:grpSpPr>
          <a:xfrm>
            <a:off x="2590920" y="2133720"/>
            <a:ext cx="3895560" cy="2217600"/>
            <a:chOff x="2590920" y="2133720"/>
            <a:chExt cx="3895560" cy="2217600"/>
          </a:xfrm>
        </p:grpSpPr>
        <p:sp>
          <p:nvSpPr>
            <p:cNvPr id="1338" name=""/>
            <p:cNvSpPr/>
            <p:nvPr/>
          </p:nvSpPr>
          <p:spPr>
            <a:xfrm>
              <a:off x="2590920" y="3948120"/>
              <a:ext cx="2419200" cy="403200"/>
            </a:xfrm>
            <a:prstGeom prst="ellipse">
              <a:avLst/>
            </a:prstGeom>
            <a:noFill/>
            <a:ln w="57240">
              <a:solidFill>
                <a:srgbClr val="ff5c00"/>
              </a:solidFill>
              <a:miter/>
            </a:ln>
            <a:effectLst>
              <a:outerShdw dist="107932" dir="2700000" blurRad="0" rotWithShape="0">
                <a:srgbClr val="ff5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4392720" y="2133720"/>
              <a:ext cx="2093760" cy="916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5c00"/>
              </a:solidFill>
              <a:miter/>
            </a:ln>
            <a:effectLst>
              <a:outerShdw dist="107932" dir="2700000" blurRad="0" rotWithShape="0">
                <a:srgbClr val="ff5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5c00"/>
                  </a:solidFill>
                  <a:latin typeface="Arial"/>
                </a:rPr>
                <a:t>This is the level in the call tree where we need to thread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 flipH="1">
              <a:off x="4408200" y="3081240"/>
              <a:ext cx="152280" cy="882720"/>
            </a:xfrm>
            <a:prstGeom prst="line">
              <a:avLst/>
            </a:prstGeom>
            <a:ln w="38160">
              <a:solidFill>
                <a:srgbClr val="ff5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1" name=""/>
          <p:cNvSpPr/>
          <p:nvPr/>
        </p:nvSpPr>
        <p:spPr>
          <a:xfrm>
            <a:off x="228600" y="4876920"/>
            <a:ext cx="8305920" cy="1068840"/>
          </a:xfrm>
          <a:prstGeom prst="rect">
            <a:avLst/>
          </a:prstGeom>
          <a:solidFill>
            <a:srgbClr val="f5e647"/>
          </a:solidFill>
          <a:ln w="38160">
            <a:solidFill>
              <a:srgbClr val="f5e647"/>
            </a:solidFill>
            <a:miter/>
          </a:ln>
          <a:effectLst>
            <a:outerShdw dist="17819" dir="2700000" blurRad="0" rotWithShape="0">
              <a:srgbClr val="ff5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entifies time consuming region – finds proper level in call-tree to th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75B5A-37F2-4F58-A453-9EF56078CAA1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6D1683-0CCE-4A0A-A551-49BD2740E2D4}" type="datetime1">
              <a:rPr lang="en-US"/>
              <a:t>07/30/26</a:t>
            </a:fld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ulti-Core Processors - Overview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456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685800" indent="-2286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core architecture enables divide-and-conquer” strategy to perform more work in a given clock cycl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8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es enable thread-level parallelism (multiple instructions / threads per clock cycle)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8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izes performance stalls, with a dramatic increase in overall effective system performan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8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er EEP (energy efficient performance) and scalability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3E151-EBBE-4E65-87E4-76F43698682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356D87-0564-4258-AA86-3710A3D94A10}" type="datetime1">
              <a:rPr lang="en-US"/>
              <a:t>07/30/26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Example Thread Checker tool: Intel® Thread  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                                                 Checker</a:t>
            </a: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Analysi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5000"/>
              </a:lnSpc>
              <a:spcBef>
                <a:spcPts val="21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ere to thread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FindPrimes(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5000"/>
              </a:lnSpc>
              <a:spcBef>
                <a:spcPts val="21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s it worth threading a selected region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5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ppears to have minimal dependenci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ppears to be data-parall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sumes over 95% of the run tim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44" name=""/>
          <p:cNvGrpSpPr/>
          <p:nvPr/>
        </p:nvGrpSpPr>
        <p:grpSpPr>
          <a:xfrm>
            <a:off x="1523880" y="3429000"/>
            <a:ext cx="4705200" cy="1419120"/>
            <a:chOff x="1523880" y="3429000"/>
            <a:chExt cx="4705200" cy="1419120"/>
          </a:xfrm>
        </p:grpSpPr>
        <p:pic>
          <p:nvPicPr>
            <p:cNvPr id="1345" name="" descr=""/>
            <p:cNvPicPr/>
            <p:nvPr/>
          </p:nvPicPr>
          <p:blipFill>
            <a:blip r:embed="rId1"/>
            <a:stretch/>
          </p:blipFill>
          <p:spPr>
            <a:xfrm>
              <a:off x="1523880" y="3429000"/>
              <a:ext cx="4705200" cy="14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6" name=""/>
            <p:cNvSpPr/>
            <p:nvPr/>
          </p:nvSpPr>
          <p:spPr>
            <a:xfrm>
              <a:off x="2824200" y="4065480"/>
              <a:ext cx="896760" cy="3488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0B6C6-AC99-4898-A0F9-95E46C635E1D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98735C-E41A-4315-96F3-4A7A33834407}" type="datetime1">
              <a:rPr lang="en-US"/>
              <a:t>07/30/26</a:t>
            </a:fld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7" name="" descr=""/>
          <p:cNvPicPr/>
          <p:nvPr/>
        </p:nvPicPr>
        <p:blipFill>
          <a:blip r:embed="rId1"/>
          <a:stretch/>
        </p:blipFill>
        <p:spPr>
          <a:xfrm>
            <a:off x="1009800" y="552600"/>
            <a:ext cx="7124400" cy="5752800"/>
          </a:xfrm>
          <a:prstGeom prst="rect">
            <a:avLst/>
          </a:prstGeom>
          <a:ln w="0">
            <a:noFill/>
          </a:ln>
        </p:spPr>
      </p:pic>
      <p:pic>
        <p:nvPicPr>
          <p:cNvPr id="1348" name="" descr=""/>
          <p:cNvPicPr/>
          <p:nvPr/>
        </p:nvPicPr>
        <p:blipFill>
          <a:blip r:embed="rId2"/>
          <a:stretch/>
        </p:blipFill>
        <p:spPr>
          <a:xfrm>
            <a:off x="2575080" y="1033560"/>
            <a:ext cx="1000080" cy="237960"/>
          </a:xfrm>
          <a:prstGeom prst="rect">
            <a:avLst/>
          </a:prstGeom>
          <a:ln w="0">
            <a:noFill/>
          </a:ln>
        </p:spPr>
      </p:pic>
      <p:pic>
        <p:nvPicPr>
          <p:cNvPr id="1349" name="" descr=""/>
          <p:cNvPicPr/>
          <p:nvPr/>
        </p:nvPicPr>
        <p:blipFill>
          <a:blip r:embed="rId3"/>
          <a:stretch/>
        </p:blipFill>
        <p:spPr>
          <a:xfrm>
            <a:off x="1019160" y="542880"/>
            <a:ext cx="7105680" cy="5772240"/>
          </a:xfrm>
          <a:prstGeom prst="rect">
            <a:avLst/>
          </a:prstGeom>
          <a:ln w="0">
            <a:noFill/>
          </a:ln>
        </p:spPr>
      </p:pic>
      <p:pic>
        <p:nvPicPr>
          <p:cNvPr id="1350" name="" descr=""/>
          <p:cNvPicPr/>
          <p:nvPr/>
        </p:nvPicPr>
        <p:blipFill>
          <a:blip r:embed="rId4"/>
          <a:stretch/>
        </p:blipFill>
        <p:spPr>
          <a:xfrm>
            <a:off x="403200" y="843120"/>
            <a:ext cx="8298000" cy="5113080"/>
          </a:xfrm>
          <a:prstGeom prst="rect">
            <a:avLst/>
          </a:prstGeom>
          <a:ln w="0">
            <a:noFill/>
          </a:ln>
        </p:spPr>
      </p:pic>
      <p:pic>
        <p:nvPicPr>
          <p:cNvPr id="1351" name="" descr=""/>
          <p:cNvPicPr/>
          <p:nvPr/>
        </p:nvPicPr>
        <p:blipFill>
          <a:blip r:embed="rId5"/>
          <a:stretch/>
        </p:blipFill>
        <p:spPr>
          <a:xfrm>
            <a:off x="404640" y="863640"/>
            <a:ext cx="8298000" cy="511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D8DF5-565F-4FC2-AE86-5314C468BFA8}" type="slidenum">
              <a:t>4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1F17BD-F708-4B41-B207-9D04257DF7AC}" type="datetime1">
              <a:rPr lang="en-US"/>
              <a:t>07/30/26</a:t>
            </a:fld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4.44444E-006 C 0.00105 -0.00533 0.00226 -0.01042 -0.00347 -0.01575 C -0.00902 -0.02107 -0.00954 -0.02848 -0.03333 -0.03149 C -0.05711 -0.0345 -0.12743 -0.03357 -0.14618 -0.03403 E">
                                      <p:cBhvr>
                                        <p:cTn id="240" dur="2000" fill="hold"/>
                                        <p:tgtEl>
                                          <p:spTgt spid="1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792612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Example Thread Profiler tool: Intel® Thread  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                                                Profiler for OpenMP</a:t>
            </a: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53" name="" descr=""/>
          <p:cNvPicPr/>
          <p:nvPr/>
        </p:nvPicPr>
        <p:blipFill>
          <a:blip r:embed="rId1"/>
          <a:stretch/>
        </p:blipFill>
        <p:spPr>
          <a:xfrm>
            <a:off x="826920" y="1239840"/>
            <a:ext cx="7020000" cy="4754520"/>
          </a:xfrm>
          <a:prstGeom prst="rect">
            <a:avLst/>
          </a:prstGeom>
          <a:ln w="0">
            <a:noFill/>
          </a:ln>
        </p:spPr>
      </p:pic>
      <p:sp>
        <p:nvSpPr>
          <p:cNvPr id="1354" name=""/>
          <p:cNvSpPr/>
          <p:nvPr/>
        </p:nvSpPr>
        <p:spPr>
          <a:xfrm>
            <a:off x="1749600" y="5703840"/>
            <a:ext cx="690480" cy="3459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 flipH="1">
            <a:off x="2325600" y="2795760"/>
            <a:ext cx="749520" cy="1612800"/>
          </a:xfrm>
          <a:prstGeom prst="line">
            <a:avLst/>
          </a:prstGeom>
          <a:ln w="57240">
            <a:solidFill>
              <a:srgbClr val="ff5c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 flipH="1">
            <a:off x="3592080" y="2852640"/>
            <a:ext cx="1554120" cy="1613160"/>
          </a:xfrm>
          <a:prstGeom prst="line">
            <a:avLst/>
          </a:prstGeom>
          <a:ln w="57240">
            <a:solidFill>
              <a:srgbClr val="ff5c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 flipH="1">
            <a:off x="4572000" y="2852640"/>
            <a:ext cx="1036800" cy="1613160"/>
          </a:xfrm>
          <a:prstGeom prst="line">
            <a:avLst/>
          </a:prstGeom>
          <a:ln w="57240">
            <a:solidFill>
              <a:srgbClr val="ff5c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 flipH="1">
            <a:off x="5204880" y="2852640"/>
            <a:ext cx="662040" cy="1613160"/>
          </a:xfrm>
          <a:prstGeom prst="line">
            <a:avLst/>
          </a:prstGeom>
          <a:ln w="57240">
            <a:solidFill>
              <a:srgbClr val="ff5c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5954760" y="2852640"/>
            <a:ext cx="114120" cy="1613160"/>
          </a:xfrm>
          <a:prstGeom prst="line">
            <a:avLst/>
          </a:prstGeom>
          <a:ln w="57240">
            <a:solidFill>
              <a:srgbClr val="ff5c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0" name=""/>
          <p:cNvGrpSpPr/>
          <p:nvPr/>
        </p:nvGrpSpPr>
        <p:grpSpPr>
          <a:xfrm>
            <a:off x="826920" y="1239840"/>
            <a:ext cx="7019640" cy="4754520"/>
            <a:chOff x="826920" y="1239840"/>
            <a:chExt cx="7019640" cy="4754520"/>
          </a:xfrm>
        </p:grpSpPr>
        <p:pic>
          <p:nvPicPr>
            <p:cNvPr id="1361" name="" descr=""/>
            <p:cNvPicPr/>
            <p:nvPr/>
          </p:nvPicPr>
          <p:blipFill>
            <a:blip r:embed="rId2"/>
            <a:stretch/>
          </p:blipFill>
          <p:spPr>
            <a:xfrm>
              <a:off x="826920" y="1239840"/>
              <a:ext cx="7019640" cy="47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2" name=""/>
            <p:cNvSpPr/>
            <p:nvPr/>
          </p:nvSpPr>
          <p:spPr>
            <a:xfrm rot="19563600">
              <a:off x="5166720" y="2736720"/>
              <a:ext cx="237960" cy="331200"/>
            </a:xfrm>
            <a:prstGeom prst="upArrow">
              <a:avLst>
                <a:gd name="adj1" fmla="val 24139"/>
                <a:gd name="adj2" fmla="val 52915"/>
              </a:avLst>
            </a:prstGeom>
            <a:solidFill>
              <a:srgbClr val="ffffff"/>
            </a:solidFill>
            <a:ln w="12600">
              <a:solidFill>
                <a:srgbClr val="ff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63" name="" descr=""/>
            <p:cNvPicPr/>
            <p:nvPr/>
          </p:nvPicPr>
          <p:blipFill>
            <a:blip r:embed="rId3"/>
            <a:stretch/>
          </p:blipFill>
          <p:spPr>
            <a:xfrm>
              <a:off x="5281200" y="3024000"/>
              <a:ext cx="1133640" cy="16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64" name="" descr=""/>
          <p:cNvPicPr/>
          <p:nvPr/>
        </p:nvPicPr>
        <p:blipFill>
          <a:blip r:embed="rId4"/>
          <a:stretch/>
        </p:blipFill>
        <p:spPr>
          <a:xfrm>
            <a:off x="838080" y="1219320"/>
            <a:ext cx="7020000" cy="4754520"/>
          </a:xfrm>
          <a:prstGeom prst="rect">
            <a:avLst/>
          </a:prstGeom>
          <a:ln w="0">
            <a:noFill/>
          </a:ln>
        </p:spPr>
      </p:pic>
      <p:grpSp>
        <p:nvGrpSpPr>
          <p:cNvPr id="1365" name=""/>
          <p:cNvGrpSpPr/>
          <p:nvPr/>
        </p:nvGrpSpPr>
        <p:grpSpPr>
          <a:xfrm>
            <a:off x="3592440" y="4638600"/>
            <a:ext cx="1117080" cy="600120"/>
            <a:chOff x="3592440" y="4638600"/>
            <a:chExt cx="1117080" cy="600120"/>
          </a:xfrm>
        </p:grpSpPr>
        <p:pic>
          <p:nvPicPr>
            <p:cNvPr id="1366" name="" descr=""/>
            <p:cNvPicPr/>
            <p:nvPr/>
          </p:nvPicPr>
          <p:blipFill>
            <a:blip r:embed="rId5"/>
            <a:stretch/>
          </p:blipFill>
          <p:spPr>
            <a:xfrm>
              <a:off x="3592440" y="4638600"/>
              <a:ext cx="960480" cy="38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7" name=""/>
            <p:cNvSpPr/>
            <p:nvPr/>
          </p:nvSpPr>
          <p:spPr>
            <a:xfrm rot="19563600">
              <a:off x="4398840" y="4868640"/>
              <a:ext cx="238320" cy="331560"/>
            </a:xfrm>
            <a:prstGeom prst="upArrow">
              <a:avLst>
                <a:gd name="adj1" fmla="val 24139"/>
                <a:gd name="adj2" fmla="val 52893"/>
              </a:avLst>
            </a:prstGeom>
            <a:solidFill>
              <a:srgbClr val="ffffff"/>
            </a:solidFill>
            <a:ln w="12600">
              <a:solidFill>
                <a:srgbClr val="ff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8" name=""/>
          <p:cNvSpPr/>
          <p:nvPr/>
        </p:nvSpPr>
        <p:spPr>
          <a:xfrm rot="19563600">
            <a:off x="3535200" y="4465440"/>
            <a:ext cx="238320" cy="331560"/>
          </a:xfrm>
          <a:prstGeom prst="upArrow">
            <a:avLst>
              <a:gd name="adj1" fmla="val 24139"/>
              <a:gd name="adj2" fmla="val 52893"/>
            </a:avLst>
          </a:prstGeom>
          <a:solidFill>
            <a:srgbClr val="ffffff"/>
          </a:solidFill>
          <a:ln w="12600">
            <a:solidFill>
              <a:srgbClr val="ff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9" name="" descr=""/>
          <p:cNvPicPr/>
          <p:nvPr/>
        </p:nvPicPr>
        <p:blipFill>
          <a:blip r:embed="rId6"/>
          <a:stretch/>
        </p:blipFill>
        <p:spPr>
          <a:xfrm>
            <a:off x="1000080" y="1643040"/>
            <a:ext cx="6591240" cy="3830760"/>
          </a:xfrm>
          <a:prstGeom prst="rect">
            <a:avLst/>
          </a:prstGeom>
          <a:ln w="0">
            <a:noFill/>
          </a:ln>
        </p:spPr>
      </p:pic>
      <p:sp>
        <p:nvSpPr>
          <p:cNvPr id="1370" name=""/>
          <p:cNvSpPr/>
          <p:nvPr/>
        </p:nvSpPr>
        <p:spPr>
          <a:xfrm>
            <a:off x="380880" y="5257800"/>
            <a:ext cx="8077320" cy="685800"/>
          </a:xfrm>
          <a:prstGeom prst="rect">
            <a:avLst/>
          </a:prstGeom>
          <a:solidFill>
            <a:srgbClr val="f5e647"/>
          </a:solidFill>
          <a:ln w="9360">
            <a:solidFill>
              <a:srgbClr val="ff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c00"/>
                </a:solidFill>
                <a:latin typeface="Verdana"/>
              </a:rPr>
              <a:t>Speedup Graph estimates threading speedup and potential speedup based on Amdahl’s La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1562E-3E9F-4E89-B564-A9481831FEE9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27529B-C5CD-4646-ACA9-6447CD7194E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500"/>
                            </p:stCondLst>
                            <p:childTnLst>
                              <p:par>
                                <p:cTn id="2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40" dur="1" fill="hold"/>
                                  <p:tgtEl>
                                    <p:spTgt spid="13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emory Caching / Performance on multi-core system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233280">
              <a:spcBef>
                <a:spcPts val="18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o maximize software performance on multi-core systems, core configurations and memory cache design has to be considered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233280">
              <a:spcBef>
                <a:spcPts val="18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ocess resources are shared by threads, and synchronized for data acces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233280">
              <a:spcBef>
                <a:spcPts val="18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ulti-core processors share caches, and processor maintains cache coherenc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233280">
              <a:spcBef>
                <a:spcPts val="18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che Memory, and System Memory contains replicated data, and data state is monitored by Cache HW. Cache lines are used for data transf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ADC1F-F40E-44C7-94A8-74342BB71C14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D1EBBA-8EC2-4E9D-AABC-6D131345E30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emory Caching – Considerations for maximizing Performanc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233280">
              <a:spcBef>
                <a:spcPts val="18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se locking primitives to get true sharing of data between threads, with data synchroniz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2332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eep few active threads to access data are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2332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plicate data copies for use by multi-threa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2332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reads feedback data to single thread for updating the shared dat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2332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reate threads sharing data on cores that share cache. Use processor affinity to assign tasks to cor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2332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alse sharing can degrade performance, so organize data efficientl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2F2C5-BD56-42FD-9553-B5302E3535F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A5C27B-5C96-403C-B1D8-2FC6BA505D5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7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S Support / SW tool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375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lnSpc>
                <a:spcPct val="85000"/>
              </a:lnSpc>
              <a:spcBef>
                <a:spcPts val="11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INUX* 2.6.16 Kernels have complete support for multi-core (detects cores and enables them), and 2.6.16 –mm tree has multi-core scheduler optimizations too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85000"/>
              </a:lnSpc>
              <a:spcBef>
                <a:spcPts val="11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tel® C++ Compiler for Linux*, / Windows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85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upports OpenMP*, Auto-parallelism, designed to support and optimize for dual-core and multi-core processor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85000"/>
              </a:lnSpc>
              <a:spcBef>
                <a:spcPts val="11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tel® Thread Check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85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inpoints notorious threading bugs like data races, stalls, and deadlocks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85000"/>
              </a:lnSpc>
              <a:spcBef>
                <a:spcPts val="11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tel® Thread Profil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85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dentifies performance issues in threaded applications, and pinpoints performance bottle-necks affecting execution tim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85000"/>
              </a:lnSpc>
              <a:spcBef>
                <a:spcPts val="11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tel® VTune Performance Analyz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85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dentifies and characterizes performance issues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9BADA-55AE-4781-957F-484AD395A8A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00675E-9451-4977-83C8-079BA9722378}" type="datetime1">
              <a:rPr lang="en-US"/>
              <a:t>07/30/26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ffffff"/>
                </a:solidFill>
                <a:latin typeface="Verdana"/>
              </a:rPr>
              <a:t>Summary</a:t>
            </a:r>
            <a:endParaRPr b="1" lang="en-US" sz="4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6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Multi-Core processors enable true thread level parallelism with great Energy Efficient Performance, and Scalabilit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6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To utilize the full potential of multi-core processors, SW applications will need to move from a single to a multi-threaded model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6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Optimization techniques like OpenMP*, Auto-parallelization, cache coherency are key to maximizing performanc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6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A SW application should not just be threaded, but should be designed to be a well-threaded application for maximizing performance on multi-core processors. 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9" name=""/>
          <p:cNvSpPr/>
          <p:nvPr/>
        </p:nvSpPr>
        <p:spPr>
          <a:xfrm>
            <a:off x="380880" y="5410080"/>
            <a:ext cx="8458200" cy="468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009c"/>
              </a:gs>
              <a:gs pos="100000">
                <a:srgbClr val="750047"/>
              </a:gs>
            </a:gsLst>
            <a:lin ang="5400000"/>
          </a:gradFill>
          <a:ln w="28440">
            <a:solidFill>
              <a:srgbClr val="ff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Unleash the power of multi-cor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EF2C6-FF9E-44FA-B677-6DBD4DFA470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742825-E562-4CF0-B350-4166A2F5E4AB}" type="datetime1">
              <a:rPr lang="en-US"/>
              <a:t>07/30/26</a:t>
            </a:fld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BACK-UP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6840" y="1711080"/>
            <a:ext cx="807732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9A06C-07CA-4897-9546-41908DDBBE33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18A3AA-3234-4D93-8F0C-9A62AD787F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1295280"/>
            <a:ext cx="8456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2000"/>
          </a:bodyPr>
          <a:p>
            <a:pPr marL="262800" indent="-2628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wo physical cores in a pack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2800" indent="-2628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2800" indent="-2628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ach with its own L1 cac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2800" indent="-2628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2800" indent="-2628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ach with its own exec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2800" indent="-2628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2800" indent="-2628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2800" indent="-2628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oth cores share the L2 cac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2800" indent="-2628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2800" indent="-2628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ruly parallel multi-tasking and threaded execution. Increased throughpu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 Dual-core Intel Processor (example)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7010280" y="457200"/>
            <a:ext cx="1884240" cy="1549440"/>
            <a:chOff x="7010280" y="457200"/>
            <a:chExt cx="1884240" cy="1549440"/>
          </a:xfrm>
        </p:grpSpPr>
        <p:pic>
          <p:nvPicPr>
            <p:cNvPr id="63" name="" descr=""/>
            <p:cNvPicPr/>
            <p:nvPr/>
          </p:nvPicPr>
          <p:blipFill>
            <a:blip r:embed="rId1"/>
            <a:stretch/>
          </p:blipFill>
          <p:spPr>
            <a:xfrm>
              <a:off x="7010280" y="457200"/>
              <a:ext cx="1884240" cy="15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7508520" y="685800"/>
              <a:ext cx="473040" cy="5889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980120" y="685800"/>
              <a:ext cx="473040" cy="5889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6510960" y="2133720"/>
            <a:ext cx="276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spcBef>
                <a:spcPts val="150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 Unicode MS"/>
              </a:rPr>
              <a:t>Two Actual Processor Co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6781680" y="2895480"/>
            <a:ext cx="2362320" cy="2222280"/>
            <a:chOff x="6781680" y="2895480"/>
            <a:chExt cx="2362320" cy="2222280"/>
          </a:xfrm>
        </p:grpSpPr>
        <p:grpSp>
          <p:nvGrpSpPr>
            <p:cNvPr id="68" name=""/>
            <p:cNvGrpSpPr/>
            <p:nvPr/>
          </p:nvGrpSpPr>
          <p:grpSpPr>
            <a:xfrm>
              <a:off x="6858000" y="2895480"/>
              <a:ext cx="2209680" cy="1830600"/>
              <a:chOff x="6858000" y="2895480"/>
              <a:chExt cx="2209680" cy="1830600"/>
            </a:xfrm>
          </p:grpSpPr>
          <p:sp>
            <p:nvSpPr>
              <p:cNvPr id="69" name=""/>
              <p:cNvSpPr/>
              <p:nvPr/>
            </p:nvSpPr>
            <p:spPr>
              <a:xfrm>
                <a:off x="7848720" y="4614840"/>
                <a:ext cx="228600" cy="1112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  <a:effectLst>
                <a:outerShdw dist="17819" dir="2700000" blurRad="0" rotWithShape="0">
                  <a:srgbClr val="ff5c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6858000" y="2895480"/>
                <a:ext cx="1058760" cy="665280"/>
                <a:chOff x="6858000" y="2895480"/>
                <a:chExt cx="1058760" cy="66528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6858000" y="3228120"/>
                  <a:ext cx="1058760" cy="332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567eb9"/>
                    </a:gs>
                    <a:gs pos="100000">
                      <a:srgbClr val="273a55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ff5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EXE Core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6858000" y="2895480"/>
                  <a:ext cx="1058760" cy="332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ff5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FP Unit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8001000" y="2895480"/>
                <a:ext cx="1058760" cy="665280"/>
                <a:chOff x="8001000" y="2895480"/>
                <a:chExt cx="1058760" cy="66528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8001000" y="3228120"/>
                  <a:ext cx="1058760" cy="332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567eb9"/>
                    </a:gs>
                    <a:gs pos="100000">
                      <a:srgbClr val="273a55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ff5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EXE Core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8001000" y="2895480"/>
                  <a:ext cx="1058760" cy="332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ff5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FP Unit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" name=""/>
              <p:cNvSpPr/>
              <p:nvPr/>
            </p:nvSpPr>
            <p:spPr>
              <a:xfrm>
                <a:off x="6858000" y="4116240"/>
                <a:ext cx="2209680" cy="48132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ff5c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L2 Cache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858000" y="3616200"/>
                <a:ext cx="1066680" cy="480960"/>
              </a:xfrm>
              <a:prstGeom prst="rect">
                <a:avLst/>
              </a:prstGeom>
              <a:gradFill rotWithShape="0">
                <a:gsLst>
                  <a:gs pos="0">
                    <a:srgbClr val="0c2e86"/>
                  </a:gs>
                  <a:gs pos="100000">
                    <a:srgbClr val="05153d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ff5c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L1 Cach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001000" y="3616200"/>
                <a:ext cx="1066680" cy="480960"/>
              </a:xfrm>
              <a:prstGeom prst="rect">
                <a:avLst/>
              </a:prstGeom>
              <a:gradFill rotWithShape="0">
                <a:gsLst>
                  <a:gs pos="0">
                    <a:srgbClr val="0c2e86"/>
                  </a:gs>
                  <a:gs pos="100000">
                    <a:srgbClr val="05153d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ff5c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L1 Cach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6781680" y="4537080"/>
              <a:ext cx="2362320" cy="5806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  <a:effectLst>
              <a:outerShdw dist="17819" dir="2700000" blurRad="0" rotWithShape="0">
                <a:srgbClr val="ff5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2e86"/>
                  </a:solidFill>
                  <a:latin typeface="Times New Roman"/>
                </a:rPr>
                <a:t>System Bu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2e86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c2e86"/>
                  </a:solidFill>
                  <a:latin typeface="Times New Roman"/>
                </a:rPr>
                <a:t>(667MHz, 5333MB/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835DD-6723-45FF-B33C-6088736D5B40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87A994-4C36-4182-B6D8-112F5C77738C}" type="datetime1">
              <a:rPr lang="en-US"/>
              <a:t>07/30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ulti-core Processors - Overview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456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1371600"/>
            <a:ext cx="8518320" cy="3776760"/>
          </a:xfrm>
          <a:prstGeom prst="roundRect">
            <a:avLst>
              <a:gd name="adj" fmla="val 5190"/>
            </a:avLst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0"/>
            <a:ext cx="9120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6172200"/>
            <a:ext cx="406584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PU dies not to scal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 rot="21081000">
            <a:off x="930240" y="3632040"/>
            <a:ext cx="1095480" cy="1136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04920" y="1371600"/>
            <a:ext cx="2771640" cy="3776760"/>
          </a:xfrm>
          <a:custGeom>
            <a:avLst/>
            <a:gdLst>
              <a:gd name="textAreaLeft" fmla="*/ 42120 w 2771640"/>
              <a:gd name="textAreaRight" fmla="*/ 2729520 w 2771640"/>
              <a:gd name="textAreaTop" fmla="*/ 42120 h 3776760"/>
              <a:gd name="textAreaBottom" fmla="*/ 3734640 h 3776760"/>
            </a:gdLst>
            <a:ahLst/>
            <a:rect l="textAreaLeft" t="textAreaTop" r="textAreaRight" b="textAreaBottom"/>
            <a:pathLst>
              <a:path w="21600" h="29432">
                <a:moveTo>
                  <a:pt x="1121" y="0"/>
                </a:moveTo>
                <a:arcTo wR="1121" hR="1121" stAng="16200000" swAng="-5400000"/>
                <a:lnTo>
                  <a:pt x="0" y="28311"/>
                </a:lnTo>
                <a:arcTo wR="1121" hR="1121" stAng="10800000" swAng="-5400000"/>
                <a:lnTo>
                  <a:pt x="20479" y="29432"/>
                </a:lnTo>
                <a:arcTo wR="1121" hR="1121" stAng="5400000" swAng="-5400000"/>
                <a:lnTo>
                  <a:pt x="21600" y="1121"/>
                </a:lnTo>
                <a:arcTo wR="1121" hR="1121" stAng="0" swAng="-5400000"/>
                <a:close/>
              </a:path>
            </a:pathLst>
          </a:custGeom>
          <a:solidFill>
            <a:srgbClr val="0000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879360" y="2675880"/>
            <a:ext cx="1705320" cy="1294560"/>
            <a:chOff x="3879360" y="2675880"/>
            <a:chExt cx="1705320" cy="1294560"/>
          </a:xfrm>
        </p:grpSpPr>
        <p:pic>
          <p:nvPicPr>
            <p:cNvPr id="88" name="" descr=""/>
            <p:cNvPicPr/>
            <p:nvPr/>
          </p:nvPicPr>
          <p:blipFill>
            <a:blip r:embed="rId2"/>
            <a:srcRect l="0" t="0" r="32336" b="0"/>
            <a:stretch/>
          </p:blipFill>
          <p:spPr>
            <a:xfrm rot="21079200">
              <a:off x="3955680" y="2846160"/>
              <a:ext cx="779040" cy="10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3"/>
            <a:srcRect l="0" t="0" r="32336" b="0"/>
            <a:stretch/>
          </p:blipFill>
          <p:spPr>
            <a:xfrm rot="21079200">
              <a:off x="4729680" y="2728080"/>
              <a:ext cx="778680" cy="107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"/>
          <p:cNvSpPr/>
          <p:nvPr/>
        </p:nvSpPr>
        <p:spPr>
          <a:xfrm>
            <a:off x="996480" y="1480680"/>
            <a:ext cx="130104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ctr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en-US" sz="2500" spc="-1" strike="noStrike">
                <a:solidFill>
                  <a:srgbClr val="f5e647"/>
                </a:solidFill>
                <a:latin typeface="Arial"/>
              </a:rPr>
              <a:t>TODAY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44560" y="3575160"/>
            <a:ext cx="1244520" cy="1265040"/>
          </a:xfrm>
          <a:custGeom>
            <a:avLst/>
            <a:gdLst/>
            <a:ahLst/>
            <a:rect l="l" t="t" r="r" b="b"/>
            <a:pathLst>
              <a:path w="1011" h="1028">
                <a:moveTo>
                  <a:pt x="0" y="123"/>
                </a:moveTo>
                <a:lnTo>
                  <a:pt x="870" y="0"/>
                </a:lnTo>
                <a:lnTo>
                  <a:pt x="1011" y="905"/>
                </a:lnTo>
                <a:lnTo>
                  <a:pt x="135" y="1028"/>
                </a:lnTo>
                <a:lnTo>
                  <a:pt x="0" y="123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0c2e8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67120" y="2682720"/>
            <a:ext cx="1712880" cy="1282680"/>
          </a:xfrm>
          <a:custGeom>
            <a:avLst/>
            <a:gdLst/>
            <a:ahLst/>
            <a:rect l="l" t="t" r="r" b="b"/>
            <a:pathLst>
              <a:path w="1391" h="1042">
                <a:moveTo>
                  <a:pt x="0" y="189"/>
                </a:moveTo>
                <a:lnTo>
                  <a:pt x="1250" y="0"/>
                </a:lnTo>
                <a:lnTo>
                  <a:pt x="1391" y="840"/>
                </a:lnTo>
                <a:lnTo>
                  <a:pt x="135" y="1042"/>
                </a:lnTo>
                <a:lnTo>
                  <a:pt x="0" y="189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0c2e8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9993800">
            <a:off x="3444480" y="3914280"/>
            <a:ext cx="2157480" cy="3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8484200">
            <a:off x="2707560" y="2783520"/>
            <a:ext cx="2656080" cy="3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Performance / Watt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11440" y="3174840"/>
            <a:ext cx="3913200" cy="1317960"/>
          </a:xfrm>
          <a:custGeom>
            <a:avLst/>
            <a:gdLst/>
            <a:ahLst/>
            <a:rect l="l" t="t" r="r" b="b"/>
            <a:pathLst>
              <a:path w="3101" h="1038">
                <a:moveTo>
                  <a:pt x="0" y="1038"/>
                </a:moveTo>
                <a:cubicBezTo>
                  <a:pt x="267" y="987"/>
                  <a:pt x="1088" y="903"/>
                  <a:pt x="1605" y="730"/>
                </a:cubicBezTo>
                <a:cubicBezTo>
                  <a:pt x="2122" y="557"/>
                  <a:pt x="2789" y="152"/>
                  <a:pt x="3101" y="0"/>
                </a:cubicBezTo>
              </a:path>
            </a:pathLst>
          </a:custGeom>
          <a:noFill/>
          <a:ln w="127080">
            <a:solidFill>
              <a:srgbClr val="ffff00"/>
            </a:solidFill>
            <a:round/>
            <a:tailEnd len="med" type="triangle" w="med"/>
          </a:ln>
          <a:effectLst>
            <a:outerShdw dist="36147" dir="2700000" blurRad="0" rotWithShape="0">
              <a:srgbClr val="ff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73280" y="2036880"/>
            <a:ext cx="3503520" cy="2336760"/>
          </a:xfrm>
          <a:custGeom>
            <a:avLst/>
            <a:gdLst/>
            <a:ahLst/>
            <a:rect l="l" t="t" r="r" b="b"/>
            <a:pathLst>
              <a:path w="2848" h="1899">
                <a:moveTo>
                  <a:pt x="0" y="1899"/>
                </a:moveTo>
                <a:cubicBezTo>
                  <a:pt x="267" y="1823"/>
                  <a:pt x="1123" y="1759"/>
                  <a:pt x="1598" y="1443"/>
                </a:cubicBezTo>
                <a:cubicBezTo>
                  <a:pt x="2073" y="1127"/>
                  <a:pt x="2588" y="301"/>
                  <a:pt x="2848" y="0"/>
                </a:cubicBezTo>
              </a:path>
            </a:pathLst>
          </a:custGeom>
          <a:noFill/>
          <a:ln w="127080">
            <a:solidFill>
              <a:srgbClr val="ff9900"/>
            </a:solidFill>
            <a:round/>
            <a:tailEnd len="med" type="triangle" w="med"/>
          </a:ln>
          <a:effectLst>
            <a:outerShdw dist="36147" dir="2700000" blurRad="0" rotWithShape="0">
              <a:srgbClr val="ff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10080" y="3886200"/>
            <a:ext cx="320220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2227320"/>
                <a:tab algn="l" pos="4454640"/>
                <a:tab algn="l" pos="6681960"/>
                <a:tab algn="l" pos="890892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Over 2X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performance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2227320"/>
                <a:tab algn="l" pos="4454640"/>
                <a:tab algn="l" pos="6681960"/>
                <a:tab algn="l" pos="89089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94480" y="2077920"/>
            <a:ext cx="3033720" cy="9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2227320"/>
                <a:tab algn="l" pos="4454640"/>
                <a:tab algn="l" pos="6681960"/>
                <a:tab algn="l" pos="890892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Verdana"/>
              </a:rPr>
              <a:t>Great EEP! (Energy Efficient Performan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99080" y="6400800"/>
            <a:ext cx="357300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* vs. 64bit Intel® Xeon™ Processor based platform (as of May ’05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5181480"/>
            <a:ext cx="7204320" cy="927360"/>
          </a:xfrm>
          <a:prstGeom prst="roundRect">
            <a:avLst>
              <a:gd name="adj" fmla="val 50000"/>
            </a:avLst>
          </a:prstGeom>
          <a:solidFill>
            <a:srgbClr val="567eb9"/>
          </a:solidFill>
          <a:ln w="28440">
            <a:solidFill>
              <a:srgbClr val="567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Driven By Dual Core, Balanc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Platform Performance and Lower Power C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33040" y="1447560"/>
            <a:ext cx="10389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ctr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en-US" sz="2500" spc="-1" strike="noStrike">
                <a:solidFill>
                  <a:srgbClr val="f5e647"/>
                </a:solidFill>
                <a:latin typeface="Arial"/>
              </a:rPr>
              <a:t>2H’06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F6FB3-2A48-4738-ADA3-5A082F7074A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D3BBEB-1F9E-4AC8-9ACC-BD1EF0485918}" type="datetime1">
              <a:rPr lang="en-US"/>
              <a:t>07/30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arallelis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45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685800" indent="-2286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wer / impact on Multi-co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8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85800" indent="0">
              <a:lnSpc>
                <a:spcPct val="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es / Threa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eading – when, why and how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nctional Decomposition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Decomposi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ed Memory Parallelis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ys to parallelis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83C95-1EE9-44BE-8178-17685F33287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D2B29B-2E33-4CAC-8504-A36D175441FD}" type="datetime1">
              <a:rPr lang="en-US"/>
              <a:t>07/30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arallelis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456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lvl="1" marL="678600" indent="-2260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wer / Impact on Multi-co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78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31480" indent="-22608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llelism is the ability to process multiple instructions, threads or jobs simultaneously per clock cycle, dramatically improving overall performa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31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31480" indent="-22608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 cores allow full potential for parallelism. An analyst likened this to designing autos with multiple cylinders, each running at optimal power efficiency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31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31480" indent="-22608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eat Energy Efficient Performance, and scalability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A9020-C19C-40A0-90D9-3E0D5C38777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51FD53-3C87-4C7F-9016-1A0CF3A6D38B}" type="datetime1">
              <a:rPr lang="en-US"/>
              <a:t>07/30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</a:rPr>
              <a:t>Parallelism – Processes/Threads</a:t>
            </a:r>
            <a:endParaRPr b="1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038480" y="1523880"/>
            <a:ext cx="473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85000"/>
              </a:lnSpc>
              <a:spcBef>
                <a:spcPts val="18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dern operating systems load programs as process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source hold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process starts executing at its entry point as a thread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reads can create other threads within the proces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ll threads within a process share code &amp; data segmen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1981080"/>
            <a:ext cx="2514600" cy="3429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4343400"/>
            <a:ext cx="2092320" cy="936360"/>
            <a:chOff x="838080" y="4343400"/>
            <a:chExt cx="2092320" cy="936360"/>
          </a:xfrm>
        </p:grpSpPr>
        <p:sp>
          <p:nvSpPr>
            <p:cNvPr id="110" name=""/>
            <p:cNvSpPr/>
            <p:nvPr/>
          </p:nvSpPr>
          <p:spPr>
            <a:xfrm>
              <a:off x="838080" y="4343400"/>
              <a:ext cx="2092320" cy="4172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ode segmen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38080" y="4862520"/>
              <a:ext cx="2092320" cy="4172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Data segmen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1219320" y="2133720"/>
            <a:ext cx="1133280" cy="922320"/>
          </a:xfrm>
          <a:prstGeom prst="rect">
            <a:avLst/>
          </a:prstGeom>
          <a:solidFill>
            <a:srgbClr val="f5e64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5c00"/>
                </a:solidFill>
                <a:latin typeface="Arial"/>
              </a:rPr>
              <a:t>thr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Arial"/>
              </a:rPr>
              <a:t>main</a:t>
            </a:r>
            <a:r>
              <a:rPr b="0" lang="en-US" sz="2400" spc="-1" strike="noStrike">
                <a:solidFill>
                  <a:srgbClr val="ff5c00"/>
                </a:solidFill>
                <a:latin typeface="Arial"/>
              </a:rPr>
              <a:t>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685800" y="3352680"/>
            <a:ext cx="2305080" cy="833400"/>
            <a:chOff x="685800" y="3352680"/>
            <a:chExt cx="2305080" cy="833400"/>
          </a:xfrm>
        </p:grpSpPr>
        <p:sp>
          <p:nvSpPr>
            <p:cNvPr id="114" name=""/>
            <p:cNvSpPr/>
            <p:nvPr/>
          </p:nvSpPr>
          <p:spPr>
            <a:xfrm>
              <a:off x="1608120" y="3551040"/>
              <a:ext cx="45720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5c00"/>
                  </a:solidFill>
                  <a:latin typeface="Arial"/>
                </a:rPr>
                <a:t>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" y="3354120"/>
              <a:ext cx="1001520" cy="831600"/>
            </a:xfrm>
            <a:prstGeom prst="rect">
              <a:avLst/>
            </a:prstGeom>
            <a:solidFill>
              <a:srgbClr val="f5e64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5c00"/>
                  </a:solidFill>
                  <a:latin typeface="Arial"/>
                </a:rPr>
                <a:t>threa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69920" y="3352680"/>
              <a:ext cx="1020960" cy="833400"/>
            </a:xfrm>
            <a:prstGeom prst="rect">
              <a:avLst/>
            </a:prstGeom>
            <a:solidFill>
              <a:srgbClr val="f5e64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5c00"/>
                  </a:solidFill>
                  <a:latin typeface="Arial"/>
                </a:rPr>
                <a:t>threa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3A713-8BFF-4827-A05D-DA6C3F1488D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4DA7AD-0A40-48BD-80A9-29F54BF0A5D1}" type="datetime1">
              <a:rPr lang="en-US"/>
              <a:t>07/30/26</a:t>
            </a:fld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1T05:50:27Z</dcterms:created>
  <dc:creator>Kittur Ganesh</dc:creator>
  <dc:description/>
  <dc:language>en-US</dc:language>
  <cp:lastModifiedBy>kganesh1</cp:lastModifiedBy>
  <dcterms:modified xsi:type="dcterms:W3CDTF">2006-04-14T14:41:53Z</dcterms:modified>
  <cp:revision>475</cp:revision>
  <dc:subject>Optimization Techniques</dc:subject>
  <dc:title>Optimization Techniques for Maximizing Application Performance on Multicore Processo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Category">
    <vt:lpwstr>Unspecified</vt:lpwstr>
  </property>
</Properties>
</file>